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14.png" ContentType="image/png"/>
  <Override PartName="/ppt/media/image10.jpeg" ContentType="image/jpeg"/>
  <Override PartName="/ppt/media/image28.png" ContentType="image/png"/>
  <Override PartName="/ppt/media/image31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CFB-F943-41A1-B426-80107CCF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0E2-EE17-4EA4-89A5-3B80E00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58842-66FA-4DD3-A99C-734EAF8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936E-360C-4898-B1D6-6D4F0CD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ED141-3BFE-45CD-8338-754AF05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6A205-29A4-4EC6-B66A-9AA5CFA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72E5B-CF7E-49F1-AB84-D819B53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8A73-DF7E-4B2D-9F18-7A6D4A9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6DD7B-AE13-4D99-89F4-858404F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00D9B-6D73-4225-A64F-9FDA8DD8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07FC-77C6-442B-AD94-27963B99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F1CBA-920B-47CF-A72F-6E277B2A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923-1A51-4F27-BD96-7B57A94A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15258-072B-4413-BECB-96D318D2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19969-B527-4F29-9A92-6A54082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A1A56-621A-4CB6-BED7-7B8CE0CE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66C7F-0AD9-4289-9789-1CDC02E2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5D519-1134-419A-BC04-C3DD9910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80BD0-DBE3-4A16-A5F0-D932094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18D20-8B87-486E-A7C3-C1501FC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7F7DB-5DC9-49BC-BDAB-C4A80CF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9B51C-CE16-4D7E-9896-2F89822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185F6-9D86-4FFD-B3F4-F9537D98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3DF-CA22-45B9-A558-C84798AA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F1C13-3D0F-4B34-972C-7BEE6304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36A-D2E7-496D-92CB-EE5C0664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BD9F-C945-4236-9E62-F15FB19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E3C6-DBEB-404E-98B5-EBD909AE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E64A-076A-409D-9259-833D109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B6B-43AA-4F10-B9B0-E74E182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C3D3-814F-4B24-8223-4E6A87F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516-6E35-4FA7-A2C1-1242954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0B4-D75B-4FF9-BDD7-6281D231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EA59-1EF2-42A8-BCDA-9123F5C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847-ED8E-4AA4-B8E5-916A771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E77-4004-4E9A-A138-D0386691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71A5-58BC-41CB-86F4-498042DA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4CCE-02FC-4145-9ED6-A603B5F6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1989-B317-4115-96E7-0B412C7B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E552-7796-4A56-9E5E-BF11B368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5544-FF6D-4975-90D9-378888F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0FF1-9C91-451E-80F4-CAD28EC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53EC-6D4E-4746-87A2-40039ED6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A14-35E1-4AF5-8D9C-E196886A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94DA-5435-43B4-9B18-088C758D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2316-D60C-4E8E-AF1A-973B5AF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501D-1195-4A24-8B2D-51B7B8F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8501-8EF5-411E-8431-00D3589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E04C-7C2C-4E7F-9320-9C48C7F7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F169-593C-43D2-BCAB-5E4FB05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3872-8341-49CB-9965-613541AF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3B97-8886-43B7-AC34-3C8A49DF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B3EC-4DF5-4937-AFB0-1CE7D05E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261E-7882-4F8A-B2EB-E18219F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96E-C302-4A45-A7BB-0621804E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3961-5A9D-4E54-845A-95681742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0047-EE20-4B57-BD2F-A9720512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456E-FABB-45FA-910C-90BF829F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02BB-5116-4585-AFC9-50F1503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0E59-A86E-47CF-858B-E1FAEA9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847D-0360-4A87-A864-2CFF8D0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79C4-667F-4004-844B-F80EEE4B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6094-AD36-4E63-AEDB-2072D244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FF02-A33F-42EC-A1B7-9B317A6F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28ED-2221-4E27-9649-62126E97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950-E49C-4218-864A-CEE765FD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7ACD-3EBC-425A-94D8-088DCB6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F109-6324-42D5-BDFF-99D0753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D00B-E4DB-46EE-BE5B-3A698F4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D906-2262-43EE-815E-8CC5F85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07C1-306A-4505-AB45-B861D3A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215E-974F-401C-9C57-11C920E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8505-D896-423C-A7DB-88D21FCA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7BCD-80DE-4F71-876E-AB321B0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3BD8-5475-4396-9827-56FF053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A714-26E1-4C5E-AB33-60628ED3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5F-6F81-42FF-890E-9CFE4C26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24C8-66A5-4316-A0F7-A708F219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AE9A-5CF4-42E2-86FD-6DB0A5FA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E866-A562-4AE3-A072-C075F72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7A06-2838-4325-A430-A782D725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29D9-F0E5-4346-945B-61DB131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A6F4-4F19-48B2-A090-9E559F71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F39D-B4BE-44DD-B8C7-9C9F6ED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39777-8E5D-4A48-BD98-26095EB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A0D05-008F-4223-8417-BA0B033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C24B-9A70-4FF4-95CF-B8CD4C9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EFE-DCD2-4064-B41D-4EEDE97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D64C-F79E-420C-8C0F-6247CED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7C12-8BDC-470C-A495-EC3E4730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2CC0-FCB8-4D54-8478-A2575335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28F6-4909-4F25-838E-C2C8F390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B3323-F6BE-4E40-A0AD-C0677242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C571-AE5E-400B-90A6-3AB6177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06E3A-F75A-4461-8C00-3B8E78E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A509-F6E1-4B01-9A29-CFE783D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BF63-8F19-4EDE-AEA4-ABDF838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9F6C3-8ECE-4C2B-86DD-FE9329F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658-00C7-4EE7-8F56-1CA9903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C76FD-44E1-4ADE-9573-6EF459B6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85ECF-20AC-4274-B14A-BBD9BD5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6B3FA-0253-4BCE-988F-40B52DC8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5B56-5931-4C89-917D-6BFF2133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8A8C-A2AE-42EB-951E-3414937B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E37D-9081-4728-8A3B-122790A4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0BA5-77A2-4377-A2F8-E6FE7EB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E37E3-1BC0-476F-AE37-FF3BCF3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7C74-63C6-445E-BE6F-F3A8BF26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BFDC-DCEF-409E-AB36-8A99C148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E65-77D6-423F-837D-17E3F87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8DBA-1F4A-4095-990C-C5C0EB1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360A-D6DF-48BE-93CD-CFB6517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9C86-2F6E-4F22-BB79-14ADECC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6922-0377-4B88-BE95-3408DF3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2F1EA-64C8-4EF2-AA40-745F18B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7014B-1EE8-4C3B-8F62-12513B4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D6DA-BD43-4508-873D-12D6EA43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287FC-C3BD-47F9-BC90-72CBC37B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58A4-D2A3-4C99-B73C-0A03B43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6DAB7-EA80-4E82-9F70-3A50FC9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32320" y="6198840"/>
            <a:ext cx="1111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849C-770A-4785-994B-0D9FDE35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dec"/>
            </a:gs>
            <a:gs pos="100000">
              <a:srgbClr val="a4b0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2206-57BF-48AF-B61B-D29B003368A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1A7-CA58-4474-A906-A246A44DF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2F9D-EE46-4F5B-B438-3CA374FF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DE8-940D-4942-965C-99D3EDE7A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17A-B00B-49CB-9E22-17BCFF57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032320" y="6198840"/>
            <a:ext cx="11113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8651-6B94-4468-8F1A-3F5FE9EE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032320" y="6198840"/>
            <a:ext cx="11113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3919-C256-476B-AB9D-40B45682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032320" y="6198840"/>
            <a:ext cx="11113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EEF-35C7-4154-89AE-C0F12DAA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96D-5C5D-4C3D-8DE7-B465AEEC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-122400" y="0"/>
            <a:ext cx="9526680" cy="6858000"/>
            <a:chOff x="-122400" y="0"/>
            <a:chExt cx="9526680" cy="6858000"/>
          </a:xfrm>
        </p:grpSpPr>
        <p:sp>
          <p:nvSpPr>
            <p:cNvPr id="411" name=""/>
            <p:cNvSpPr/>
            <p:nvPr/>
          </p:nvSpPr>
          <p:spPr>
            <a:xfrm flipV="1">
              <a:off x="4572000" y="36576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2" name=""/>
            <p:cNvCxnSpPr>
              <a:stCxn id="413" idx="3"/>
            </p:cNvCxnSpPr>
            <p:nvPr/>
          </p:nvCxnSpPr>
          <p:spPr>
            <a:xfrm>
              <a:off x="5530680" y="3628440"/>
              <a:ext cx="720" cy="29520"/>
            </a:xfrm>
            <a:prstGeom prst="straightConnector1">
              <a:avLst/>
            </a:prstGeom>
            <a:ln w="0">
              <a:noFill/>
            </a:ln>
          </p:spPr>
        </p:cxnSp>
        <p:pic>
          <p:nvPicPr>
            <p:cNvPr id="414" name="" descr=""/>
            <p:cNvPicPr/>
            <p:nvPr/>
          </p:nvPicPr>
          <p:blipFill>
            <a:blip r:embed="rId1"/>
            <a:srcRect l="11978" t="17063" r="14366" b="13326"/>
            <a:stretch/>
          </p:blipFill>
          <p:spPr>
            <a:xfrm>
              <a:off x="4857840" y="2994120"/>
              <a:ext cx="4087800" cy="38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rot="18966000">
              <a:off x="5030280" y="37177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000" y="4648320"/>
              <a:ext cx="76320" cy="152280"/>
            </a:xfrm>
            <a:prstGeom prst="upArrow">
              <a:avLst>
                <a:gd name="adj1" fmla="val 50000"/>
                <a:gd name="adj2" fmla="val 498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-122400" y="0"/>
              <a:ext cx="4794480" cy="6564960"/>
              <a:chOff x="-122400" y="0"/>
              <a:chExt cx="4794480" cy="6564960"/>
            </a:xfrm>
          </p:grpSpPr>
          <p:pic>
            <p:nvPicPr>
              <p:cNvPr id="418" name="" descr=""/>
              <p:cNvPicPr/>
              <p:nvPr/>
            </p:nvPicPr>
            <p:blipFill>
              <a:blip r:embed="rId2"/>
              <a:srcRect l="14620" t="0" r="0" b="295"/>
              <a:stretch/>
            </p:blipFill>
            <p:spPr>
              <a:xfrm>
                <a:off x="0" y="0"/>
                <a:ext cx="4672080" cy="4813200"/>
              </a:xfrm>
              <a:prstGeom prst="rect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-122400" y="5373720"/>
                <a:ext cx="4040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hemical  Bonds are li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rface is Electrical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R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is posi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Arial"/>
                  </a:rPr>
                  <a:t>Blue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is neg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30520" y="4540320"/>
                <a:ext cx="380880" cy="838080"/>
              </a:xfrm>
              <a:prstGeom prst="upArrow">
                <a:avLst>
                  <a:gd name="adj1" fmla="val 50000"/>
                  <a:gd name="adj2" fmla="val 5500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0"/>
              <a:ext cx="4556160" cy="42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hemist’s Vi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11720" y="219240"/>
              <a:ext cx="5092560" cy="18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Ion </a:t>
              </a: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Channels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4000"/>
              </a:br>
              <a:r>
                <a:rPr b="1" lang="en-US" sz="3200" spc="-1" strike="noStrike">
                  <a:solidFill>
                    <a:srgbClr val="c8c8c4"/>
                  </a:solidFill>
                  <a:latin typeface="Arial"/>
                </a:rPr>
                <a:t>Proteins with a Hole</a:t>
              </a:r>
              <a:r>
                <a:rPr b="1" lang="en-US" sz="3200" spc="-1" strike="noStrike">
                  <a:solidFill>
                    <a:srgbClr val="edffff"/>
                  </a:solidFill>
                  <a:latin typeface="Arial"/>
                </a:rPr>
                <a:t>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92400" y="342900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l Atoms 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118120" y="169236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gure by Raimund Dutz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424320" y="6405120"/>
            <a:ext cx="1636560" cy="453600"/>
            <a:chOff x="3424320" y="6405120"/>
            <a:chExt cx="1636560" cy="453600"/>
          </a:xfrm>
        </p:grpSpPr>
        <p:sp>
          <p:nvSpPr>
            <p:cNvPr id="425" name=""/>
            <p:cNvSpPr/>
            <p:nvPr/>
          </p:nvSpPr>
          <p:spPr>
            <a:xfrm flipV="1">
              <a:off x="3424320" y="6405120"/>
              <a:ext cx="163656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7080" y="6521400"/>
              <a:ext cx="113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~30 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29C-994B-46D1-B770-87B082329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aa5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1474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0000"/>
                </a:solidFill>
                <a:uFillTx/>
                <a:latin typeface="Arial"/>
                <a:ea typeface="굴림"/>
              </a:rPr>
              <a:t>Understand Selectivity</a:t>
            </a:r>
            <a:r>
              <a:rPr b="1" lang="en-US" sz="5400" spc="-1" strike="noStrike">
                <a:solidFill>
                  <a:srgbClr val="ff0101"/>
                </a:solidFill>
                <a:latin typeface="Arial"/>
                <a:ea typeface="굴림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1b1b"/>
                </a:solidFill>
                <a:latin typeface="Arial"/>
                <a:ea typeface="굴림"/>
              </a:rPr>
              <a:t>well enough to</a:t>
            </a:r>
            <a:br>
              <a:rPr sz="4800"/>
            </a:br>
            <a:r>
              <a:rPr b="1" lang="en-US" sz="4400" spc="-1" strike="noStrike" u="sng">
                <a:solidFill>
                  <a:srgbClr val="990000"/>
                </a:solidFill>
                <a:uFillTx/>
                <a:latin typeface="Arial"/>
                <a:ea typeface="굴림"/>
              </a:rPr>
              <a:t>Fit Large Amounts of Data</a:t>
            </a:r>
            <a:br>
              <a:rPr sz="4800"/>
            </a:br>
            <a:r>
              <a:rPr b="0" lang="en-US" sz="4800" spc="-1" strike="noStrike">
                <a:solidFill>
                  <a:srgbClr val="1b1b1b"/>
                </a:solidFill>
                <a:latin typeface="Arial"/>
                <a:ea typeface="굴림"/>
              </a:rPr>
              <a:t> and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00"/>
                </a:solidFill>
                <a:uFillTx/>
                <a:latin typeface="Arial"/>
                <a:ea typeface="굴림"/>
              </a:rPr>
              <a:t>Make a Calcium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33880" y="444600"/>
            <a:ext cx="22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1b"/>
                </a:solidFill>
                <a:latin typeface="Arial"/>
                <a:ea typeface="굴림"/>
              </a:rPr>
              <a:t>Go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310-2A32-4F97-AF34-3783970DB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dec"/>
            </a:gs>
            <a:gs pos="100000">
              <a:srgbClr val="a4b0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58880" y="5230800"/>
            <a:ext cx="1158840" cy="1198440"/>
          </a:xfrm>
          <a:prstGeom prst="ellipse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405800" y="0"/>
            <a:ext cx="6610320" cy="6608880"/>
            <a:chOff x="1405800" y="0"/>
            <a:chExt cx="6610320" cy="6608880"/>
          </a:xfrm>
        </p:grpSpPr>
        <p:grpSp>
          <p:nvGrpSpPr>
            <p:cNvPr id="524" name=""/>
            <p:cNvGrpSpPr/>
            <p:nvPr/>
          </p:nvGrpSpPr>
          <p:grpSpPr>
            <a:xfrm>
              <a:off x="1405800" y="0"/>
              <a:ext cx="6610320" cy="6608880"/>
              <a:chOff x="1405800" y="0"/>
              <a:chExt cx="6610320" cy="660888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1405800" y="0"/>
                <a:ext cx="6610320" cy="6608880"/>
                <a:chOff x="1405800" y="0"/>
                <a:chExt cx="6610320" cy="660888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1758960" y="1054080"/>
                  <a:ext cx="5979960" cy="5554800"/>
                  <a:chOff x="1758960" y="1054080"/>
                  <a:chExt cx="5979960" cy="5554800"/>
                </a:xfrm>
              </p:grpSpPr>
              <p:pic>
                <p:nvPicPr>
                  <p:cNvPr id="527" name="" descr=""/>
                  <p:cNvPicPr/>
                  <p:nvPr/>
                </p:nvPicPr>
                <p:blipFill>
                  <a:blip r:embed="rId1"/>
                  <a:srcRect l="0" t="1406" r="0" b="0"/>
                  <a:stretch/>
                </p:blipFill>
                <p:spPr>
                  <a:xfrm>
                    <a:off x="1758960" y="1054080"/>
                    <a:ext cx="5979960" cy="5554800"/>
                  </a:xfrm>
                  <a:prstGeom prst="rect">
                    <a:avLst/>
                  </a:prstGeom>
                  <a:ln w="63360">
                    <a:solidFill>
                      <a:srgbClr val="ffffff"/>
                    </a:solidFill>
                    <a:miter/>
                  </a:ln>
                </p:spPr>
              </p:pic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137120" y="2614680"/>
                    <a:ext cx="1360440" cy="576360"/>
                    <a:chOff x="4137120" y="2614680"/>
                    <a:chExt cx="1360440" cy="57636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137120" y="2614680"/>
                      <a:ext cx="1158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2d96"/>
                          </a:solidFill>
                          <a:latin typeface="Arial"/>
                        </a:rPr>
                        <a:t>Mis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414680" y="2630520"/>
                      <a:ext cx="609840" cy="2746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4942080" y="2786040"/>
                      <a:ext cx="555480" cy="405000"/>
                    </a:xfrm>
                    <a:prstGeom prst="ellipse">
                      <a:avLst/>
                    </a:prstGeom>
                    <a:solidFill>
                      <a:srgbClr val="ff99cc">
                        <a:alpha val="27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2" name=""/>
                <p:cNvSpPr/>
                <p:nvPr/>
              </p:nvSpPr>
              <p:spPr>
                <a:xfrm>
                  <a:off x="1405800" y="0"/>
                  <a:ext cx="661032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1" lang="en-US" sz="2400" spc="-1" strike="noStrike" u="sng">
                      <a:solidFill>
                        <a:srgbClr val="003366"/>
                      </a:solidFill>
                      <a:uFillTx/>
                      <a:latin typeface="Arial"/>
                    </a:rPr>
                    <a:t>Divalents in RyR: fits with a few parameters:</a:t>
                  </a:r>
                  <a:br>
                    <a:rPr sz="2400"/>
                  </a:br>
                  <a:r>
                    <a:rPr b="1" i="1" lang="en-US" sz="1600" spc="-1" strike="noStrike">
                      <a:solidFill>
                        <a:srgbClr val="003366"/>
                      </a:solidFill>
                      <a:latin typeface="Arial"/>
                    </a:rPr>
                    <a:t>Gillespie, Meissner, Le Xu, </a:t>
                  </a:r>
                  <a:r>
                    <a:rPr b="1" i="1" lang="en-US" sz="1600" spc="-1" strike="noStrike" u="sng">
                      <a:solidFill>
                        <a:srgbClr val="003366"/>
                      </a:solidFill>
                      <a:uFillTx/>
                      <a:latin typeface="Arial"/>
                    </a:rPr>
                    <a:t>not</a:t>
                  </a:r>
                  <a:r>
                    <a:rPr b="1" i="1" lang="en-US" sz="1600" spc="-1" strike="noStrike">
                      <a:solidFill>
                        <a:srgbClr val="003366"/>
                      </a:solidFill>
                      <a:latin typeface="Arial"/>
                    </a:rPr>
                    <a:t> Bob Eisenber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935000" y="1270080"/>
                  <a:ext cx="736920" cy="64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KC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CaCl</a:t>
                  </a:r>
                  <a:r>
                    <a:rPr b="0" lang="en-US" sz="1700" spc="-1" strike="noStrike" baseline="-25000">
                      <a:solidFill>
                        <a:srgbClr val="000202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935000" y="4114800"/>
                  <a:ext cx="736920" cy="64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CsC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CaCl</a:t>
                  </a:r>
                  <a:r>
                    <a:rPr b="0" lang="en-US" sz="1700" spc="-1" strike="noStrike" baseline="-25000">
                      <a:solidFill>
                        <a:srgbClr val="000202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58360" y="1270080"/>
                  <a:ext cx="736920" cy="64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NaC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CaCl</a:t>
                  </a:r>
                  <a:r>
                    <a:rPr b="0" lang="en-US" sz="1700" spc="-1" strike="noStrike" baseline="-25000">
                      <a:solidFill>
                        <a:srgbClr val="000202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059080" y="4114800"/>
                  <a:ext cx="759600" cy="64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KC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5840"/>
                      <a:tab algn="l" pos="1832040"/>
                      <a:tab algn="l" pos="2747880"/>
                      <a:tab algn="l" pos="3664080"/>
                      <a:tab algn="l" pos="4579920"/>
                      <a:tab algn="l" pos="5495760"/>
                      <a:tab algn="l" pos="6411960"/>
                      <a:tab algn="l" pos="7327800"/>
                      <a:tab algn="l" pos="8244000"/>
                      <a:tab algn="l" pos="9159840"/>
                      <a:tab algn="l" pos="10076040"/>
                    </a:tabLst>
                  </a:pPr>
                  <a:r>
                    <a:rPr b="0" lang="en-US" sz="1700" spc="-1" strike="noStrike">
                      <a:solidFill>
                        <a:srgbClr val="000202"/>
                      </a:solidFill>
                      <a:latin typeface="Arial"/>
                    </a:rPr>
                    <a:t>MgCl</a:t>
                  </a:r>
                  <a:r>
                    <a:rPr b="0" lang="en-US" sz="1700" spc="-1" strike="noStrike" baseline="-25000">
                      <a:solidFill>
                        <a:srgbClr val="000202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1590840" y="5192640"/>
                <a:ext cx="1134000" cy="1135080"/>
                <a:chOff x="1590840" y="5192640"/>
                <a:chExt cx="1134000" cy="113508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1590840" y="5192640"/>
                  <a:ext cx="934560" cy="444600"/>
                  <a:chOff x="1590840" y="5192640"/>
                  <a:chExt cx="934560" cy="4446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590840" y="5192640"/>
                    <a:ext cx="9345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ff2d96"/>
                        </a:solidFill>
                        <a:latin typeface="Arial"/>
                      </a:rPr>
                      <a:t>Misfi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027160" y="5450040"/>
                    <a:ext cx="113760" cy="187200"/>
                  </a:xfrm>
                  <a:prstGeom prst="line">
                    <a:avLst/>
                  </a:prstGeom>
                  <a:ln w="25560">
                    <a:solidFill>
                      <a:srgbClr val="ff2d9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813680" y="5205240"/>
                    <a:ext cx="491400" cy="2433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 flipH="1">
                  <a:off x="1648440" y="5605560"/>
                  <a:ext cx="1076040" cy="722160"/>
                </a:xfrm>
                <a:prstGeom prst="ellipse">
                  <a:avLst/>
                </a:prstGeom>
                <a:solidFill>
                  <a:srgbClr val="ff99cc">
                    <a:alpha val="2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483160" y="1081080"/>
              <a:ext cx="2047680" cy="611280"/>
              <a:chOff x="5483160" y="1081080"/>
              <a:chExt cx="2047680" cy="611280"/>
            </a:xfrm>
          </p:grpSpPr>
          <p:sp>
            <p:nvSpPr>
              <p:cNvPr id="544" name=""/>
              <p:cNvSpPr/>
              <p:nvPr/>
            </p:nvSpPr>
            <p:spPr>
              <a:xfrm>
                <a:off x="5673600" y="1081080"/>
                <a:ext cx="1623960" cy="611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3160" y="123048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66"/>
                    </a:solidFill>
                    <a:latin typeface="Arial"/>
                  </a:rPr>
                  <a:t>Error &lt; 0.1 k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81BE1-D86E-4558-B0BE-1A7E0CB45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90520" y="0"/>
            <a:ext cx="8032680" cy="6493680"/>
            <a:chOff x="290520" y="0"/>
            <a:chExt cx="8032680" cy="6493680"/>
          </a:xfrm>
        </p:grpSpPr>
        <p:grpSp>
          <p:nvGrpSpPr>
            <p:cNvPr id="547" name=""/>
            <p:cNvGrpSpPr/>
            <p:nvPr/>
          </p:nvGrpSpPr>
          <p:grpSpPr>
            <a:xfrm>
              <a:off x="290520" y="0"/>
              <a:ext cx="8032680" cy="6493680"/>
              <a:chOff x="290520" y="0"/>
              <a:chExt cx="8032680" cy="649368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290520" y="0"/>
                <a:ext cx="8032680" cy="6212520"/>
                <a:chOff x="290520" y="0"/>
                <a:chExt cx="8032680" cy="621252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579600" y="0"/>
                  <a:ext cx="7405200" cy="5040000"/>
                  <a:chOff x="579600" y="0"/>
                  <a:chExt cx="7405200" cy="504000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808200" y="928800"/>
                    <a:ext cx="7176600" cy="4111200"/>
                    <a:chOff x="808200" y="928800"/>
                    <a:chExt cx="7176600" cy="4111200"/>
                  </a:xfrm>
                </p:grpSpPr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808200" y="928800"/>
                      <a:ext cx="7176600" cy="4111200"/>
                      <a:chOff x="808200" y="928800"/>
                      <a:chExt cx="7176600" cy="4111200"/>
                    </a:xfrm>
                  </p:grpSpPr>
                  <p:grpSp>
                    <p:nvGrpSpPr>
                      <p:cNvPr id="552" name=""/>
                      <p:cNvGrpSpPr/>
                      <p:nvPr/>
                    </p:nvGrpSpPr>
                    <p:grpSpPr>
                      <a:xfrm>
                        <a:off x="808200" y="928800"/>
                        <a:ext cx="7176600" cy="4111200"/>
                        <a:chOff x="808200" y="928800"/>
                        <a:chExt cx="7176600" cy="4111200"/>
                      </a:xfrm>
                    </p:grpSpPr>
                    <p:pic>
                      <p:nvPicPr>
                        <p:cNvPr id="553" name="" descr="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808200" y="928800"/>
                          <a:ext cx="7176600" cy="411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>
                          <a:off x="2391120" y="3037680"/>
                          <a:ext cx="473040" cy="682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2459880" y="3670560"/>
                          <a:ext cx="209520" cy="1263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6" name=""/>
                      <p:cNvGrpSpPr/>
                      <p:nvPr/>
                    </p:nvGrpSpPr>
                    <p:grpSpPr>
                      <a:xfrm>
                        <a:off x="1015920" y="3044880"/>
                        <a:ext cx="1657440" cy="827280"/>
                        <a:chOff x="1015920" y="3044880"/>
                        <a:chExt cx="1657440" cy="827280"/>
                      </a:xfrm>
                    </p:grpSpPr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1015920" y="3044880"/>
                          <a:ext cx="1657440" cy="330120"/>
                        </a:xfrm>
                        <a:prstGeom prst="rect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27360" bIns="27360" anchor="t">
                          <a:no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i="1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 </a:t>
                          </a:r>
                          <a:r>
                            <a:rPr b="1" i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alcium selective</a:t>
                          </a:r>
                          <a:r>
                            <a:rPr b="1" i="1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 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2673360" y="3381480"/>
                          <a:ext cx="0" cy="490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2646360" y="3373560"/>
                      <a:ext cx="6480" cy="503280"/>
                    </a:xfrm>
                    <a:prstGeom prst="line">
                      <a:avLst/>
                    </a:prstGeom>
                    <a:ln w="19080">
                      <a:solidFill>
                        <a:srgbClr val="00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0" name=""/>
                  <p:cNvSpPr/>
                  <p:nvPr/>
                </p:nvSpPr>
                <p:spPr>
                  <a:xfrm>
                    <a:off x="579600" y="0"/>
                    <a:ext cx="7176960" cy="14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xperiment</a:t>
                    </a:r>
                    <a:br>
                      <a:rPr sz="2400"/>
                    </a:b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Two Synthetic Calcium Channels</a:t>
                    </a: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 </a:t>
                    </a:r>
                    <a:br>
                      <a:rPr sz="2000"/>
                    </a:b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signed by Theory</a:t>
                    </a:r>
                    <a:br>
                      <a:rPr sz="2000"/>
                    </a:b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1" name=""/>
                <p:cNvSpPr/>
                <p:nvPr/>
              </p:nvSpPr>
              <p:spPr>
                <a:xfrm>
                  <a:off x="800280" y="5016600"/>
                  <a:ext cx="717696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As charge density increases, channel becomes calcium selective</a:t>
                  </a:r>
                  <a:r>
                    <a:rPr b="1" lang="en-US" sz="1800" spc="-1" strike="noStrike">
                      <a:solidFill>
                        <a:srgbClr val="333399"/>
                      </a:solidFill>
                      <a:latin typeface="Arial"/>
                    </a:rPr>
                    <a:t> </a:t>
                  </a:r>
                  <a:br>
                    <a:rPr sz="1800"/>
                  </a:br>
                  <a:r>
                    <a:rPr b="0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E</a:t>
                  </a:r>
                  <a:r>
                    <a:rPr b="0" lang="en-US" sz="1800" spc="-1" strike="noStrike" baseline="-25000">
                      <a:solidFill>
                        <a:srgbClr val="333399"/>
                      </a:solidFill>
                      <a:latin typeface="Arial"/>
                    </a:rPr>
                    <a:t>rev</a:t>
                  </a: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 E</a:t>
                  </a:r>
                  <a:r>
                    <a:rPr b="0" lang="en-US" sz="1800" spc="-1" strike="noStrike" baseline="-25000">
                      <a:solidFill>
                        <a:srgbClr val="333399"/>
                      </a:solidFill>
                      <a:latin typeface="Arial"/>
                    </a:rPr>
                    <a:t>Ca</a:t>
                  </a:r>
                  <a:r>
                    <a:rPr b="0" lang="en-US" sz="1800" spc="-1" strike="noStrike">
                      <a:solidFill>
                        <a:srgbClr val="333399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731120" y="4219560"/>
                  <a:ext cx="994320" cy="4813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27360" bIns="27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selectiv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ld Type</a:t>
                  </a: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4592520" y="3895200"/>
                  <a:ext cx="131760" cy="33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90520" y="5905440"/>
                  <a:ext cx="8032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uilt by Henk Miedema, Wim Meijberg of BioMade Corp.,Groningen, Netherland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468360" y="6186600"/>
                <a:ext cx="765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iedema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et al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, Biophys J 87: 3137–3147 (2004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199200" y="156996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TANT ─ Compo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8007480" y="1706400"/>
            <a:ext cx="1136520" cy="497160"/>
          </a:xfrm>
          <a:prstGeom prst="wedgeRoundRectCallout">
            <a:avLst>
              <a:gd name="adj1" fmla="val -94550"/>
              <a:gd name="adj2" fmla="val 13578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lutathione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C80E-B32F-43BB-8C48-B9D3EBFAB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4476600" y="4299120"/>
          <a:ext cx="4667400" cy="24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6600" y="4299120"/>
                    <a:ext cx="46674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4521240" y="4226040"/>
            <a:ext cx="4551480" cy="2570040"/>
          </a:xfrm>
          <a:prstGeom prst="ellipse">
            <a:avLst/>
          </a:prstGeom>
          <a:solidFill>
            <a:srgbClr val="ccffff">
              <a:alpha val="39000"/>
            </a:srgbClr>
          </a:solidFill>
          <a:ln w="12600">
            <a:solidFill>
              <a:srgbClr val="636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289480" y="554040"/>
            <a:ext cx="2468520" cy="920880"/>
            <a:chOff x="5289480" y="554040"/>
            <a:chExt cx="2468520" cy="920880"/>
          </a:xfrm>
        </p:grpSpPr>
        <p:grpSp>
          <p:nvGrpSpPr>
            <p:cNvPr id="572" name=""/>
            <p:cNvGrpSpPr/>
            <p:nvPr/>
          </p:nvGrpSpPr>
          <p:grpSpPr>
            <a:xfrm>
              <a:off x="5557680" y="835200"/>
              <a:ext cx="2200320" cy="639720"/>
              <a:chOff x="5557680" y="835200"/>
              <a:chExt cx="2200320" cy="639720"/>
            </a:xfrm>
          </p:grpSpPr>
          <p:sp>
            <p:nvSpPr>
              <p:cNvPr id="573" name=""/>
              <p:cNvSpPr/>
              <p:nvPr/>
            </p:nvSpPr>
            <p:spPr>
              <a:xfrm>
                <a:off x="5871240" y="835200"/>
                <a:ext cx="1545120" cy="6397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5400000">
                <a:off x="5956920" y="527040"/>
                <a:ext cx="451800" cy="1250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6906600" y="529200"/>
                <a:ext cx="452160" cy="1250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89480" y="56844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 nm diame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35800" y="554040"/>
              <a:ext cx="123840" cy="574560"/>
            </a:xfrm>
            <a:custGeom>
              <a:avLst/>
              <a:gdLst/>
              <a:ahLst/>
              <a:rect l="l" t="t" r="r" b="b"/>
              <a:pathLst>
                <a:path w="78" h="341">
                  <a:moveTo>
                    <a:pt x="0" y="101"/>
                  </a:moveTo>
                  <a:cubicBezTo>
                    <a:pt x="18" y="50"/>
                    <a:pt x="36" y="0"/>
                    <a:pt x="49" y="40"/>
                  </a:cubicBezTo>
                  <a:cubicBezTo>
                    <a:pt x="62" y="80"/>
                    <a:pt x="70" y="210"/>
                    <a:pt x="78" y="34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-28440" y="533520"/>
            <a:ext cx="920088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33520" y="901800"/>
            <a:ext cx="2200320" cy="639720"/>
            <a:chOff x="533520" y="901800"/>
            <a:chExt cx="2200320" cy="639720"/>
          </a:xfrm>
        </p:grpSpPr>
        <p:sp>
          <p:nvSpPr>
            <p:cNvPr id="580" name=""/>
            <p:cNvSpPr/>
            <p:nvPr/>
          </p:nvSpPr>
          <p:spPr>
            <a:xfrm>
              <a:off x="847080" y="901800"/>
              <a:ext cx="1545120" cy="63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5400000">
              <a:off x="932760" y="593640"/>
              <a:ext cx="451800" cy="125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6200000">
              <a:off x="1882440" y="595800"/>
              <a:ext cx="452160" cy="125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447920" y="5181480"/>
            <a:ext cx="2200320" cy="639720"/>
            <a:chOff x="1447920" y="5181480"/>
            <a:chExt cx="2200320" cy="639720"/>
          </a:xfrm>
        </p:grpSpPr>
        <p:sp>
          <p:nvSpPr>
            <p:cNvPr id="584" name=""/>
            <p:cNvSpPr/>
            <p:nvPr/>
          </p:nvSpPr>
          <p:spPr>
            <a:xfrm>
              <a:off x="1761480" y="5181480"/>
              <a:ext cx="1545120" cy="63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00000">
              <a:off x="1847160" y="4873320"/>
              <a:ext cx="451800" cy="125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2796840" y="4875480"/>
              <a:ext cx="452160" cy="125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95256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.0 mM K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102888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 mM K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1714680"/>
          <a:ext cx="3352680" cy="217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14680"/>
                    <a:ext cx="33526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133720" y="27050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805280" y="1828800"/>
          <a:ext cx="35006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5280" y="1828800"/>
                    <a:ext cx="3500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6386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90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2895480"/>
            <a:ext cx="22860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2438280"/>
            <a:ext cx="1219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 selectiv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10280" y="2666880"/>
            <a:ext cx="22860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05720" y="2057400"/>
            <a:ext cx="121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 selectiv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5562720"/>
            <a:ext cx="914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10 mM CaCl</a:t>
            </a:r>
            <a:r>
              <a:rPr b="1" lang="en-US" sz="15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3800" y="914400"/>
            <a:ext cx="914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0.1 mM CaCl</a:t>
            </a:r>
            <a:r>
              <a:rPr b="1" lang="en-US" sz="15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41911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495288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.0 mM K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1066680"/>
            <a:ext cx="914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10 mM CaC</a:t>
            </a:r>
            <a:r>
              <a:rPr b="1" lang="en-US" sz="15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505320" y="502920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 mM K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5638680"/>
            <a:ext cx="914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0.1 mM CaCl</a:t>
            </a:r>
            <a:r>
              <a:rPr b="1" lang="en-US" sz="15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001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7031160" y="5064120"/>
            <a:ext cx="350640" cy="36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4572000"/>
            <a:ext cx="121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 selectiv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032600" y="5570280"/>
            <a:ext cx="1303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10280" y="632448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~ 1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le in Plastic: Synthetic Nanopore NO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0680" y="6364440"/>
            <a:ext cx="3865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zanna Siwy &amp; Yan He, UC Ir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1573200"/>
            <a:ext cx="35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yethylene terephth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81160" y="587844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00040" y="5521320"/>
            <a:ext cx="312840" cy="498600"/>
          </a:xfrm>
          <a:custGeom>
            <a:avLst/>
            <a:gdLst/>
            <a:ahLst/>
            <a:rect l="l" t="t" r="r" b="b"/>
            <a:pathLst>
              <a:path w="197" h="314">
                <a:moveTo>
                  <a:pt x="146" y="313"/>
                </a:moveTo>
                <a:cubicBezTo>
                  <a:pt x="73" y="313"/>
                  <a:pt x="0" y="314"/>
                  <a:pt x="8" y="262"/>
                </a:cubicBezTo>
                <a:cubicBezTo>
                  <a:pt x="16" y="210"/>
                  <a:pt x="167" y="42"/>
                  <a:pt x="197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71720" y="5000760"/>
            <a:ext cx="416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746360" y="5008680"/>
            <a:ext cx="45216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28760" y="485316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08939-3DFA-4627-A811-613649A5D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aa5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6681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  <a:ea typeface="굴림"/>
              </a:rPr>
              <a:t>Understand Selectivity</a:t>
            </a:r>
            <a:br>
              <a:rPr sz="54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  <a:ea typeface="굴림"/>
              </a:rPr>
              <a:t>with </a:t>
            </a:r>
            <a:br>
              <a:rPr sz="3600"/>
            </a:br>
            <a:r>
              <a:rPr b="1" lang="en-US" sz="5400" spc="-1" strike="noStrike">
                <a:solidFill>
                  <a:srgbClr val="990000"/>
                </a:solidFill>
                <a:latin typeface="Arial"/>
                <a:ea typeface="굴림"/>
              </a:rPr>
              <a:t>Reduced Models</a:t>
            </a:r>
            <a:r>
              <a:rPr b="1" lang="en-US" sz="5400" spc="-1" strike="noStrike">
                <a:solidFill>
                  <a:srgbClr val="ff0101"/>
                </a:solidFill>
                <a:latin typeface="Arial"/>
                <a:ea typeface="굴림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44840" y="0"/>
            <a:ext cx="222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1b1b"/>
                </a:solidFill>
                <a:latin typeface="Arial"/>
                <a:ea typeface="굴림"/>
              </a:rPr>
              <a:t>Goa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9040" y="3187800"/>
            <a:ext cx="854712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K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channels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*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Benoit Roux; Susan Rempe/Sameer V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1600" spc="-1" strike="noStrike" baseline="30000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hannels in only one solution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o far</a:t>
            </a:r>
            <a:br>
              <a:rPr sz="1600"/>
            </a:br>
            <a:br>
              <a:rPr sz="2000"/>
            </a:b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Na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&amp;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Ca channels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Arial"/>
                <a:ea typeface="굴림"/>
              </a:rPr>
              <a:t>§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Nonner,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et 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RyR channels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Arial"/>
                <a:ea typeface="굴림"/>
              </a:rPr>
              <a:t>§†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Gillespie &amp; Meissn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22360" y="5803920"/>
            <a:ext cx="643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  <a:ea typeface="굴림"/>
              </a:rPr>
              <a:t>§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Arial"/>
                <a:ea typeface="굴림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Wide range of solutions</a:t>
            </a:r>
            <a:br>
              <a:rPr sz="2000"/>
            </a:br>
            <a:r>
              <a:rPr b="1" i="1" lang="en-US" sz="2800" spc="-1" strike="noStrike" baseline="30000">
                <a:solidFill>
                  <a:srgbClr val="333399"/>
                </a:solidFill>
                <a:latin typeface="Arial"/>
                <a:ea typeface="굴림"/>
              </a:rPr>
              <a:t>†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Wide range of electrical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810-E112-4512-9A26-DDCAC9488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590920" y="29052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84360" y="35100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0"/>
            <a:ext cx="9143640" cy="6897600"/>
            <a:chOff x="0" y="0"/>
            <a:chExt cx="9143640" cy="689760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571640" y="457200"/>
              <a:ext cx="38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inding Curv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32200" y="0"/>
              <a:ext cx="1934640" cy="785520"/>
            </a:xfrm>
            <a:prstGeom prst="rect">
              <a:avLst/>
            </a:prstGeom>
            <a:gradFill rotWithShape="0">
              <a:gsLst>
                <a:gs pos="0">
                  <a:srgbClr val="f5fbff"/>
                </a:gs>
                <a:gs pos="100000">
                  <a:srgbClr val="f5f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550800" y="65214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lfgang No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D5E-1D8C-4288-8B50-1B5C88C3D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6080" y="14400"/>
            <a:ext cx="9347040" cy="6858000"/>
            <a:chOff x="46080" y="14400"/>
            <a:chExt cx="9347040" cy="6858000"/>
          </a:xfrm>
        </p:grpSpPr>
        <p:grpSp>
          <p:nvGrpSpPr>
            <p:cNvPr id="634" name=""/>
            <p:cNvGrpSpPr/>
            <p:nvPr/>
          </p:nvGrpSpPr>
          <p:grpSpPr>
            <a:xfrm>
              <a:off x="46080" y="14400"/>
              <a:ext cx="9290880" cy="6858000"/>
              <a:chOff x="46080" y="14400"/>
              <a:chExt cx="9290880" cy="6858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46080" y="14400"/>
                <a:ext cx="9290880" cy="6858000"/>
                <a:chOff x="46080" y="14400"/>
                <a:chExt cx="9290880" cy="685800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46080" y="14400"/>
                  <a:ext cx="9290880" cy="6858000"/>
                  <a:chOff x="46080" y="14400"/>
                  <a:chExt cx="9290880" cy="6858000"/>
                </a:xfrm>
              </p:grpSpPr>
              <p:pic>
                <p:nvPicPr>
                  <p:cNvPr id="63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6080" y="14400"/>
                    <a:ext cx="9290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7484040" y="4997520"/>
                    <a:ext cx="1476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1" lang="en-US" sz="2400" spc="-1" strike="noStrike" baseline="46000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r>
                      <a:rPr b="1" lang="en-US" sz="2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½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9" name=""/>
                <p:cNvSpPr/>
                <p:nvPr/>
              </p:nvSpPr>
              <p:spPr>
                <a:xfrm>
                  <a:off x="46080" y="4280040"/>
                  <a:ext cx="1416600" cy="979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electivity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Fi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6080" y="195480"/>
                  <a:ext cx="4345200" cy="10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 u="sng">
                      <a:solidFill>
                        <a:srgbClr val="cc0000"/>
                      </a:solidFill>
                      <a:uFillTx/>
                      <a:latin typeface="Arial"/>
                    </a:rPr>
                    <a:t>Selectivity Filter</a:t>
                  </a:r>
                  <a:r>
                    <a:rPr b="1" lang="en-US" sz="3600" spc="-1" strike="noStrike">
                      <a:solidFill>
                        <a:srgbClr val="cc0000"/>
                      </a:solidFill>
                      <a:latin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cc0000"/>
                      </a:solidFill>
                      <a:latin typeface="Arial"/>
                    </a:rPr>
                    <a:t>Crowded with Charg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6856560" y="6351840"/>
                <a:ext cx="199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olfgang Nonn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8993160" y="14400"/>
              <a:ext cx="399960" cy="6858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7680240" y="2865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806600" y="380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A0A-725F-405D-89BD-9E212A094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401840" y="62596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631960" y="6259680"/>
            <a:ext cx="149400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6057A-B2AD-4603-BC39-553265ABAD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4987800" y="649440"/>
          <a:ext cx="3994200" cy="4979880"/>
        </p:xfrm>
        <a:graphic>
          <a:graphicData uri="http://schemas.openxmlformats.org/drawingml/2006/table">
            <a:tbl>
              <a:tblPr/>
              <a:tblGrid>
                <a:gridCol w="1949400"/>
                <a:gridCol w="2044800"/>
              </a:tblGrid>
              <a:tr h="67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Diameters</a:t>
                      </a:r>
                      <a:br>
                        <a:rPr sz="2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ng Di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8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76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2.00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2400" spc="-1" strike="noStrike" baseline="30000">
                          <a:solidFill>
                            <a:srgbClr val="cc3399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2.66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15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Chain’ Di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147b3"/>
                          </a:solidFill>
                          <a:latin typeface="Arial"/>
                        </a:rPr>
                        <a:t>Lysine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1147b3"/>
                          </a:solidFill>
                          <a:latin typeface="Arial"/>
                        </a:rPr>
                        <a:t>3.00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or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80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1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Channel Diameter 6 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1881360" y="4033800"/>
            <a:ext cx="706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89520" y="5730840"/>
            <a:ext cx="404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ameters are Fixed in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lculation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lutions for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mut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987800" y="6597720"/>
            <a:ext cx="386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a, Nonner, Valisko, Henderson, Eisenberg &amp; Gillesp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52280" y="3627360"/>
            <a:ext cx="4599000" cy="3230280"/>
            <a:chOff x="152280" y="3627360"/>
            <a:chExt cx="4599000" cy="3230280"/>
          </a:xfrm>
        </p:grpSpPr>
        <p:grpSp>
          <p:nvGrpSpPr>
            <p:cNvPr id="653" name=""/>
            <p:cNvGrpSpPr/>
            <p:nvPr/>
          </p:nvGrpSpPr>
          <p:grpSpPr>
            <a:xfrm>
              <a:off x="152280" y="3644640"/>
              <a:ext cx="4599000" cy="3213000"/>
              <a:chOff x="152280" y="3644640"/>
              <a:chExt cx="4599000" cy="32130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400" y="3644640"/>
                <a:ext cx="4308480" cy="31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509400" y="6070320"/>
                <a:ext cx="4199040" cy="787320"/>
              </a:xfrm>
              <a:prstGeom prst="ellipse">
                <a:avLst/>
              </a:prstGeom>
              <a:gradFill rotWithShape="0">
                <a:gsLst>
                  <a:gs pos="0">
                    <a:srgbClr val="a92727"/>
                  </a:gs>
                  <a:gs pos="50000">
                    <a:srgbClr val="ffc9c9"/>
                  </a:gs>
                  <a:gs pos="100000">
                    <a:srgbClr val="a92727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52280" y="6135480"/>
                <a:ext cx="45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ide Chains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e Sphere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           </a:t>
                </a: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Free</a:t>
                </a: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to mov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nside chann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604800" y="3627360"/>
              <a:ext cx="36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Snap Shots of Cont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978440" y="0"/>
            <a:ext cx="364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rowded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06400" y="297000"/>
            <a:ext cx="3252960" cy="3220560"/>
            <a:chOff x="806400" y="297000"/>
            <a:chExt cx="3252960" cy="3220560"/>
          </a:xfrm>
        </p:grpSpPr>
        <p:grpSp>
          <p:nvGrpSpPr>
            <p:cNvPr id="660" name=""/>
            <p:cNvGrpSpPr/>
            <p:nvPr/>
          </p:nvGrpSpPr>
          <p:grpSpPr>
            <a:xfrm>
              <a:off x="1818720" y="3154320"/>
              <a:ext cx="1205280" cy="363240"/>
              <a:chOff x="1818720" y="3154320"/>
              <a:chExt cx="1205280" cy="363240"/>
            </a:xfrm>
          </p:grpSpPr>
          <p:cxnSp>
            <p:nvCxnSpPr>
              <p:cNvPr id="661" name=""/>
              <p:cNvCxnSpPr/>
              <p:nvPr/>
            </p:nvCxnSpPr>
            <p:spPr>
              <a:xfrm flipV="1">
                <a:off x="1818720" y="3154320"/>
                <a:ext cx="1205640" cy="10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62" name=""/>
              <p:cNvSpPr/>
              <p:nvPr/>
            </p:nvSpPr>
            <p:spPr>
              <a:xfrm>
                <a:off x="2079360" y="3180240"/>
                <a:ext cx="56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806400" y="297000"/>
              <a:ext cx="3252960" cy="2705040"/>
              <a:chOff x="806400" y="297000"/>
              <a:chExt cx="3252960" cy="270504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806400" y="297000"/>
                <a:ext cx="3247920" cy="2705040"/>
                <a:chOff x="806400" y="297000"/>
                <a:chExt cx="3247920" cy="2705040"/>
              </a:xfrm>
            </p:grpSpPr>
            <p:pic>
              <p:nvPicPr>
                <p:cNvPr id="6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06400" y="592200"/>
                  <a:ext cx="3247920" cy="24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6" name=""/>
                <p:cNvSpPr/>
                <p:nvPr/>
              </p:nvSpPr>
              <p:spPr>
                <a:xfrm>
                  <a:off x="806400" y="297000"/>
                  <a:ext cx="3245040" cy="274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adial Crowding is Sev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808200" y="584280"/>
                <a:ext cx="3251160" cy="2417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65FA-95E0-492C-B78B-FC4E9D6AD7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805040" y="6053040"/>
            <a:ext cx="6319800" cy="27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39840" y="142920"/>
            <a:ext cx="1589400" cy="402480"/>
            <a:chOff x="3939840" y="142920"/>
            <a:chExt cx="1589400" cy="402480"/>
          </a:xfrm>
        </p:grpSpPr>
        <p:sp>
          <p:nvSpPr>
            <p:cNvPr id="671" name=""/>
            <p:cNvSpPr/>
            <p:nvPr/>
          </p:nvSpPr>
          <p:spPr>
            <a:xfrm>
              <a:off x="4238640" y="142920"/>
              <a:ext cx="129060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e0000"/>
                  </a:solidFill>
                  <a:latin typeface="Arial"/>
                </a:rPr>
                <a:t>Aspartate</a:t>
              </a:r>
              <a:r>
                <a:rPr b="0" lang="en-US" sz="1200" spc="-1" strike="noStrike">
                  <a:solidFill>
                    <a:srgbClr val="9e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9e0000"/>
                  </a:solidFill>
                  <a:latin typeface="Arial"/>
                </a:rPr>
                <a:t>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9e0000"/>
                  </a:solidFill>
                  <a:latin typeface="Arial"/>
                </a:rPr>
                <a:t>acid (negativ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3939840" y="306360"/>
              <a:ext cx="56052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224240" y="1050840"/>
            <a:ext cx="1654200" cy="357120"/>
            <a:chOff x="4224240" y="1050840"/>
            <a:chExt cx="1654200" cy="357120"/>
          </a:xfrm>
        </p:grpSpPr>
        <p:sp>
          <p:nvSpPr>
            <p:cNvPr id="674" name=""/>
            <p:cNvSpPr/>
            <p:nvPr/>
          </p:nvSpPr>
          <p:spPr>
            <a:xfrm>
              <a:off x="4224240" y="1050840"/>
              <a:ext cx="1290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33"/>
                  </a:solidFill>
                  <a:latin typeface="Arial"/>
                </a:rPr>
                <a:t>Lysine 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0" i="1" lang="en-US" sz="900" spc="-1" strike="noStrike">
                  <a:solidFill>
                    <a:srgbClr val="990033"/>
                  </a:solidFill>
                  <a:latin typeface="Arial"/>
                </a:rPr>
                <a:t>basic (positiv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37200" y="1168560"/>
              <a:ext cx="741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043520" y="1459080"/>
            <a:ext cx="1747800" cy="166680"/>
          </a:xfrm>
          <a:custGeom>
            <a:avLst/>
            <a:gdLst/>
            <a:ahLst/>
            <a:rect l="l" t="t" r="r" b="b"/>
            <a:pathLst>
              <a:path w="1101" h="150">
                <a:moveTo>
                  <a:pt x="0" y="131"/>
                </a:moveTo>
                <a:cubicBezTo>
                  <a:pt x="184" y="65"/>
                  <a:pt x="368" y="0"/>
                  <a:pt x="551" y="3"/>
                </a:cubicBezTo>
                <a:cubicBezTo>
                  <a:pt x="734" y="6"/>
                  <a:pt x="1031" y="131"/>
                  <a:pt x="1101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B1B0-9FC2-4036-8D28-1074733C1A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7a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74124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Physics as Usual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long wi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e0040"/>
                </a:solidFill>
                <a:latin typeface="Arial"/>
              </a:rPr>
              <a:t>Biology as Usual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3440" y="274680"/>
            <a:ext cx="827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n Channels can be analyzed wit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44080" y="4406760"/>
            <a:ext cx="50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e0040"/>
                </a:solidFill>
                <a:latin typeface="Arial"/>
              </a:rPr>
              <a:t>Biology has been a descriptive science, </a:t>
            </a:r>
            <a:br>
              <a:rPr sz="2000"/>
            </a:br>
            <a:r>
              <a:rPr b="1" i="1" lang="en-US" sz="2000" spc="-1" strike="noStrike">
                <a:solidFill>
                  <a:srgbClr val="9e0040"/>
                </a:solidFill>
                <a:latin typeface="Arial"/>
              </a:rPr>
              <a:t>necess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063-27B9-4B63-BBC2-46C21BE389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 flipH="1" flipV="1">
            <a:off x="5954760" y="4521240"/>
            <a:ext cx="6480" cy="4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87080" y="144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lectiv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s on Dielectric 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lectric Boundary Force = D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145200" y="2181240"/>
            <a:ext cx="29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electric is a Charge Ampl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54160" y="3532320"/>
            <a:ext cx="1766880" cy="927000"/>
            <a:chOff x="254160" y="3532320"/>
            <a:chExt cx="1766880" cy="927000"/>
          </a:xfrm>
        </p:grpSpPr>
        <p:sp>
          <p:nvSpPr>
            <p:cNvPr id="681" name=""/>
            <p:cNvSpPr/>
            <p:nvPr/>
          </p:nvSpPr>
          <p:spPr>
            <a:xfrm>
              <a:off x="347760" y="3610080"/>
              <a:ext cx="838080" cy="849240"/>
            </a:xfrm>
            <a:prstGeom prst="ellipse">
              <a:avLst/>
            </a:prstGeom>
            <a:gradFill rotWithShape="0">
              <a:gsLst>
                <a:gs pos="0">
                  <a:srgbClr val="009600">
                    <a:alpha val="8235"/>
                  </a:srgbClr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254160" y="3532320"/>
              <a:ext cx="1766880" cy="825120"/>
              <a:chOff x="254160" y="3532320"/>
              <a:chExt cx="1766880" cy="825120"/>
            </a:xfrm>
          </p:grpSpPr>
          <p:sp>
            <p:nvSpPr>
              <p:cNvPr id="683" name=""/>
              <p:cNvSpPr/>
              <p:nvPr/>
            </p:nvSpPr>
            <p:spPr>
              <a:xfrm>
                <a:off x="254160" y="3532320"/>
                <a:ext cx="1173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2e00"/>
                    </a:solidFill>
                    <a:latin typeface="Arial"/>
                  </a:rPr>
                  <a:t>Na</a:t>
                </a:r>
                <a:r>
                  <a:rPr b="1" lang="en-US" sz="3200" spc="-1" strike="noStrike" baseline="30000">
                    <a:solidFill>
                      <a:srgbClr val="002e00"/>
                    </a:solidFill>
                    <a:latin typeface="Arial"/>
                  </a:rPr>
                  <a:t>+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192680" y="387684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600"/>
                    </a:solidFill>
                    <a:latin typeface="Arial"/>
                  </a:rPr>
                  <a:t>2.0 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0" y="1455840"/>
            <a:ext cx="21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Si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und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362400" y="1604880"/>
            <a:ext cx="2685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Channel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365280" y="2599920"/>
            <a:ext cx="29880" cy="2357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025720" y="2147760"/>
            <a:ext cx="102060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67640" y="473544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80000"/>
                </a:solidFill>
                <a:uFillTx/>
                <a:latin typeface="Arial"/>
              </a:rPr>
              <a:t>Zero</a:t>
            </a:r>
            <a:r>
              <a:rPr b="1" lang="en-US" sz="1800" spc="-1" strike="noStrike">
                <a:solidFill>
                  <a:srgbClr val="b8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Dielectric Boundary Forc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167160" y="4957920"/>
            <a:ext cx="669960" cy="9360"/>
          </a:xfrm>
          <a:prstGeom prst="line">
            <a:avLst/>
          </a:prstGeom>
          <a:ln w="15840">
            <a:solidFill>
              <a:srgbClr val="d62c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458040" y="36622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lectric Boundar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161040" y="3936960"/>
            <a:ext cx="60336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6330960" y="2631960"/>
          <a:ext cx="25272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0960" y="2631960"/>
                    <a:ext cx="25272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36520" y="6421320"/>
            <a:ext cx="17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a et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7105680" y="5354640"/>
          <a:ext cx="15112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5680" y="5354640"/>
                    <a:ext cx="1511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6986520" y="4303800"/>
          <a:ext cx="15112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6520" y="4303800"/>
                    <a:ext cx="1511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4013280" y="5506920"/>
            <a:ext cx="17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16360" y="4621320"/>
            <a:ext cx="22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17640" y="252396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65520" y="3597120"/>
            <a:ext cx="45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1506240" y="3755880"/>
            <a:ext cx="2193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iv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+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86080" y="2986200"/>
            <a:ext cx="212760" cy="699840"/>
          </a:xfrm>
          <a:prstGeom prst="upArrow">
            <a:avLst>
              <a:gd name="adj1" fmla="val 50000"/>
              <a:gd name="adj2" fmla="val 82234"/>
            </a:avLst>
          </a:prstGeom>
          <a:gradFill rotWithShape="0">
            <a:gsLst>
              <a:gs pos="0">
                <a:srgbClr val="808080">
                  <a:alpha val="25098"/>
                </a:srgbClr>
              </a:gs>
              <a:gs pos="100000">
                <a:srgbClr val="3b3b3b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89080" y="4816440"/>
            <a:ext cx="1766880" cy="963720"/>
            <a:chOff x="289080" y="4816440"/>
            <a:chExt cx="1766880" cy="963720"/>
          </a:xfrm>
        </p:grpSpPr>
        <p:sp>
          <p:nvSpPr>
            <p:cNvPr id="707" name=""/>
            <p:cNvSpPr/>
            <p:nvPr/>
          </p:nvSpPr>
          <p:spPr>
            <a:xfrm>
              <a:off x="1227240" y="5160960"/>
              <a:ext cx="8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98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89080" y="4816440"/>
              <a:ext cx="1172880" cy="963720"/>
              <a:chOff x="289080" y="4816440"/>
              <a:chExt cx="1172880" cy="963720"/>
            </a:xfrm>
          </p:grpSpPr>
          <p:sp>
            <p:nvSpPr>
              <p:cNvPr id="709" name=""/>
              <p:cNvSpPr/>
              <p:nvPr/>
            </p:nvSpPr>
            <p:spPr>
              <a:xfrm>
                <a:off x="347760" y="4930920"/>
                <a:ext cx="838080" cy="8492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3333"/>
                    </a:srgbClr>
                  </a:gs>
                  <a:gs pos="100000">
                    <a:srgbClr val="3b3b3b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89080" y="4816440"/>
                <a:ext cx="1172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e00"/>
                    </a:solidFill>
                    <a:latin typeface="Arial"/>
                  </a:rPr>
                  <a:t>Ca</a:t>
                </a:r>
                <a:r>
                  <a:rPr b="1" lang="en-US" sz="2400" spc="-1" strike="noStrike" baseline="30000">
                    <a:solidFill>
                      <a:srgbClr val="002e00"/>
                    </a:solidFill>
                    <a:latin typeface="Arial"/>
                  </a:rPr>
                  <a:t>++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11" name=""/>
          <p:cNvGraphicFramePr/>
          <p:nvPr/>
        </p:nvGraphicFramePr>
        <p:xfrm>
          <a:off x="4446720" y="4552920"/>
          <a:ext cx="92700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46720" y="4552920"/>
                    <a:ext cx="927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3" name=""/>
          <p:cNvGrpSpPr/>
          <p:nvPr/>
        </p:nvGrpSpPr>
        <p:grpSpPr>
          <a:xfrm>
            <a:off x="3160800" y="2100240"/>
            <a:ext cx="3116160" cy="3396600"/>
            <a:chOff x="3160800" y="2100240"/>
            <a:chExt cx="3116160" cy="3396600"/>
          </a:xfrm>
        </p:grpSpPr>
        <p:grpSp>
          <p:nvGrpSpPr>
            <p:cNvPr id="714" name=""/>
            <p:cNvGrpSpPr/>
            <p:nvPr/>
          </p:nvGrpSpPr>
          <p:grpSpPr>
            <a:xfrm>
              <a:off x="3160800" y="2100240"/>
              <a:ext cx="2963880" cy="3220920"/>
              <a:chOff x="3160800" y="2100240"/>
              <a:chExt cx="2963880" cy="32209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3160800" y="2100240"/>
                <a:ext cx="2963880" cy="3220920"/>
                <a:chOff x="3160800" y="2100240"/>
                <a:chExt cx="2963880" cy="3220920"/>
              </a:xfrm>
            </p:grpSpPr>
            <p:pic>
              <p:nvPicPr>
                <p:cNvPr id="7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160800" y="2100240"/>
                  <a:ext cx="2963880" cy="322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7" name=""/>
                <p:cNvSpPr/>
                <p:nvPr/>
              </p:nvSpPr>
              <p:spPr>
                <a:xfrm>
                  <a:off x="4494240" y="2811600"/>
                  <a:ext cx="318960" cy="44748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718" name=""/>
              <p:cNvGraphicFramePr/>
              <p:nvPr/>
            </p:nvGraphicFramePr>
            <p:xfrm>
              <a:off x="3887640" y="2828880"/>
              <a:ext cx="1892520" cy="4190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71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887640" y="2828880"/>
                        <a:ext cx="189252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20" name=""/>
            <p:cNvSpPr/>
            <p:nvPr/>
          </p:nvSpPr>
          <p:spPr>
            <a:xfrm>
              <a:off x="3168720" y="5253120"/>
              <a:ext cx="310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                      8                    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568520" y="2835360"/>
            <a:ext cx="5678280" cy="3481200"/>
            <a:chOff x="1568520" y="2835360"/>
            <a:chExt cx="5678280" cy="3481200"/>
          </a:xfrm>
        </p:grpSpPr>
        <p:sp>
          <p:nvSpPr>
            <p:cNvPr id="722" name=""/>
            <p:cNvSpPr/>
            <p:nvPr/>
          </p:nvSpPr>
          <p:spPr>
            <a:xfrm>
              <a:off x="2359080" y="5842080"/>
              <a:ext cx="4887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all Size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Greater Charge Sele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68520" y="2835360"/>
              <a:ext cx="1460520" cy="3017880"/>
            </a:xfrm>
            <a:custGeom>
              <a:avLst/>
              <a:gdLst/>
              <a:ahLst/>
              <a:rect l="l" t="t" r="r" b="b"/>
              <a:pathLst>
                <a:path w="849" h="2176">
                  <a:moveTo>
                    <a:pt x="593" y="2176"/>
                  </a:moveTo>
                  <a:cubicBezTo>
                    <a:pt x="296" y="1656"/>
                    <a:pt x="0" y="1137"/>
                    <a:pt x="43" y="774"/>
                  </a:cubicBezTo>
                  <a:cubicBezTo>
                    <a:pt x="86" y="411"/>
                    <a:pt x="467" y="205"/>
                    <a:pt x="84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84280" y="5875200"/>
              <a:ext cx="4732560" cy="441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6842160" y="4770360"/>
            <a:ext cx="1928880" cy="998640"/>
          </a:xfrm>
          <a:prstGeom prst="rect">
            <a:avLst/>
          </a:prstGeom>
          <a:noFill/>
          <a:ln w="15840">
            <a:solidFill>
              <a:srgbClr val="d62c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6133-2F0C-4D1E-B631-06973722CE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40880" y="406080"/>
            <a:ext cx="8269560" cy="573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Selectivity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KA Na Channel</a:t>
            </a:r>
            <a:br>
              <a:rPr sz="3200"/>
            </a:b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hing was chang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76F1-95E4-4869-BBD4-C928AD2B05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214560" y="162000"/>
            <a:ext cx="9358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1e22"/>
                </a:solidFill>
                <a:latin typeface="Arial"/>
              </a:rPr>
              <a:t>Size Selectivity is in the Depletion Z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670200" y="5454720"/>
            <a:ext cx="2127240" cy="635040"/>
            <a:chOff x="3670200" y="5454720"/>
            <a:chExt cx="2127240" cy="635040"/>
          </a:xfrm>
        </p:grpSpPr>
        <p:sp>
          <p:nvSpPr>
            <p:cNvPr id="729" name=""/>
            <p:cNvSpPr/>
            <p:nvPr/>
          </p:nvSpPr>
          <p:spPr>
            <a:xfrm>
              <a:off x="3670200" y="572148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letion Z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5400000">
              <a:off x="4472640" y="5114160"/>
              <a:ext cx="296640" cy="977760"/>
            </a:xfrm>
            <a:custGeom>
              <a:avLst/>
              <a:gdLst>
                <a:gd name="textAreaLeft" fmla="*/ 0 w 296640"/>
                <a:gd name="textAreaRight" fmla="*/ 106920 w 296640"/>
                <a:gd name="textAreaTop" fmla="*/ 25200 h 977760"/>
                <a:gd name="textAreaBottom" fmla="*/ 952560 h 9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52280" y="6342120"/>
            <a:ext cx="25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a,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440400" y="2722680"/>
            <a:ext cx="3200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NaCl] = 50 m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KCl] = 50 m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2560" y="2014560"/>
            <a:ext cx="169092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1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nel Pro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0240" y="849240"/>
            <a:ext cx="756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p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125880" y="6145200"/>
            <a:ext cx="319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K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 Channel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 Å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340200" y="3335760"/>
            <a:ext cx="27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ntration    [Mol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0" y="1687680"/>
            <a:ext cx="9144000" cy="3848040"/>
            <a:chOff x="0" y="1687680"/>
            <a:chExt cx="9144000" cy="3848040"/>
          </a:xfrm>
        </p:grpSpPr>
        <p:grpSp>
          <p:nvGrpSpPr>
            <p:cNvPr id="738" name=""/>
            <p:cNvGrpSpPr/>
            <p:nvPr/>
          </p:nvGrpSpPr>
          <p:grpSpPr>
            <a:xfrm>
              <a:off x="2340000" y="2955960"/>
              <a:ext cx="4640400" cy="2314440"/>
              <a:chOff x="2340000" y="2955960"/>
              <a:chExt cx="4640400" cy="2314440"/>
            </a:xfrm>
          </p:grpSpPr>
          <p:sp>
            <p:nvSpPr>
              <p:cNvPr id="739" name=""/>
              <p:cNvSpPr/>
              <p:nvPr/>
            </p:nvSpPr>
            <p:spPr>
              <a:xfrm>
                <a:off x="5372280" y="2971800"/>
                <a:ext cx="1608120" cy="1135080"/>
              </a:xfrm>
              <a:prstGeom prst="rect">
                <a:avLst/>
              </a:prstGeom>
              <a:blipFill rotWithShape="0">
                <a:blip r:embed="rId1">
                  <a:alphaModFix amt="8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340000" y="2955960"/>
                <a:ext cx="1584360" cy="1158840"/>
              </a:xfrm>
              <a:prstGeom prst="rect">
                <a:avLst/>
              </a:prstGeom>
              <a:blipFill rotWithShape="0">
                <a:blip r:embed="rId2">
                  <a:alphaModFix amt="8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4646520" y="4624560"/>
                <a:ext cx="2295720" cy="645840"/>
              </a:xfrm>
              <a:prstGeom prst="line">
                <a:avLst/>
              </a:prstGeom>
              <a:ln w="25560">
                <a:solidFill>
                  <a:srgbClr val="1c5dd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V="1">
              <a:off x="6378480" y="2941200"/>
              <a:ext cx="0" cy="28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2951280" y="2989440"/>
              <a:ext cx="792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73240" y="375912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0" y="1687680"/>
              <a:ext cx="9144000" cy="3848040"/>
              <a:chOff x="0" y="1687680"/>
              <a:chExt cx="9144000" cy="384804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0" y="2265480"/>
                <a:ext cx="1654200" cy="1314360"/>
                <a:chOff x="0" y="2265480"/>
                <a:chExt cx="1654200" cy="131436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0" y="3036960"/>
                  <a:ext cx="716040" cy="542880"/>
                  <a:chOff x="0" y="3036960"/>
                  <a:chExt cx="716040" cy="54288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84240" y="3036960"/>
                    <a:ext cx="539640" cy="54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d84ff">
                          <a:alpha val="51372"/>
                        </a:srgbClr>
                      </a:gs>
                      <a:gs pos="100000">
                        <a:srgbClr val="2a3c7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0" y="3148200"/>
                    <a:ext cx="716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Arial"/>
                      </a:rPr>
                      <a:t>K</a:t>
                    </a:r>
                    <a:r>
                      <a:rPr b="0" lang="en-US" sz="1800" spc="-1" strike="noStrike" baseline="30000">
                        <a:solidFill>
                          <a:srgbClr val="000099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0" y="2265480"/>
                  <a:ext cx="715680" cy="420480"/>
                  <a:chOff x="0" y="2265480"/>
                  <a:chExt cx="715680" cy="42048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136440" y="2265480"/>
                    <a:ext cx="420480" cy="420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f5f3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0" y="2306520"/>
                    <a:ext cx="715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Na</a:t>
                    </a:r>
                    <a:r>
                      <a:rPr b="0" lang="en-US" sz="16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3" name=""/>
                <p:cNvSpPr/>
                <p:nvPr/>
              </p:nvSpPr>
              <p:spPr>
                <a:xfrm>
                  <a:off x="646200" y="3313080"/>
                  <a:ext cx="1008000" cy="0"/>
                </a:xfrm>
                <a:prstGeom prst="line">
                  <a:avLst/>
                </a:prstGeom>
                <a:ln w="41400">
                  <a:solidFill>
                    <a:srgbClr val="3366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665280" y="2473200"/>
                  <a:ext cx="812520" cy="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965240" y="1687680"/>
                <a:ext cx="7178760" cy="3848040"/>
                <a:chOff x="1965240" y="1687680"/>
                <a:chExt cx="7178760" cy="38480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6924600" y="4224240"/>
                  <a:ext cx="2205000" cy="731880"/>
                </a:xfrm>
                <a:prstGeom prst="ellipse">
                  <a:avLst/>
                </a:prstGeom>
                <a:blipFill rotWithShape="0">
                  <a:blip r:embed="rId3">
                    <a:alphaModFix amt="31000"/>
                  </a:blip>
                  <a:srcRect/>
                  <a:tile tx="0" ty="0" sx="100000" sy="100000" algn="ctr"/>
                </a:blipFill>
                <a:ln w="158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7" name=""/>
                <p:cNvGrpSpPr/>
                <p:nvPr/>
              </p:nvGrpSpPr>
              <p:grpSpPr>
                <a:xfrm>
                  <a:off x="1965240" y="1687680"/>
                  <a:ext cx="7178760" cy="3848040"/>
                  <a:chOff x="1965240" y="1687680"/>
                  <a:chExt cx="7178760" cy="384804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1965240" y="1687680"/>
                    <a:ext cx="5143680" cy="3848040"/>
                    <a:chOff x="1965240" y="1687680"/>
                    <a:chExt cx="5143680" cy="3848040"/>
                  </a:xfrm>
                </p:grpSpPr>
                <p:pic>
                  <p:nvPicPr>
                    <p:cNvPr id="7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5240" y="1687680"/>
                      <a:ext cx="5143680" cy="38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3933720" y="2952720"/>
                      <a:ext cx="1422360" cy="1189080"/>
                    </a:xfrm>
                    <a:prstGeom prst="rect">
                      <a:avLst/>
                    </a:prstGeom>
                    <a:blipFill rotWithShape="0">
                      <a:blip r:embed="rId5">
                        <a:alphaModFix amt="40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1" name=""/>
                    <p:cNvGrpSpPr/>
                    <p:nvPr/>
                  </p:nvGrpSpPr>
                  <p:grpSpPr>
                    <a:xfrm>
                      <a:off x="2332080" y="2946240"/>
                      <a:ext cx="4660920" cy="1176480"/>
                      <a:chOff x="2332080" y="2946240"/>
                      <a:chExt cx="4660920" cy="1176480"/>
                    </a:xfrm>
                  </p:grpSpPr>
                  <p:grpSp>
                    <p:nvGrpSpPr>
                      <p:cNvPr id="762" name=""/>
                      <p:cNvGrpSpPr/>
                      <p:nvPr/>
                    </p:nvGrpSpPr>
                    <p:grpSpPr>
                      <a:xfrm>
                        <a:off x="6032520" y="3240000"/>
                        <a:ext cx="716040" cy="542880"/>
                        <a:chOff x="6032520" y="3240000"/>
                        <a:chExt cx="716040" cy="542880"/>
                      </a:xfrm>
                    </p:grpSpPr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>
                          <a:off x="6116760" y="3240000"/>
                          <a:ext cx="539640" cy="5428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5d84ff">
                                <a:alpha val="51372"/>
                              </a:srgbClr>
                            </a:gs>
                            <a:gs pos="100000">
                              <a:srgbClr val="2a3c75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>
                          <a:off x="6032520" y="3351240"/>
                          <a:ext cx="716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99"/>
                              </a:solidFill>
                              <a:latin typeface="Arial"/>
                            </a:rPr>
                            <a:t>K</a:t>
                          </a:r>
                          <a:r>
                            <a:rPr b="0" lang="en-US" sz="1800" spc="-1" strike="noStrike" baseline="30000">
                              <a:solidFill>
                                <a:srgbClr val="000099"/>
                              </a:solidFill>
                              <a:latin typeface="Arial"/>
                            </a:rPr>
                            <a:t>+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5" name=""/>
                      <p:cNvGrpSpPr/>
                      <p:nvPr/>
                    </p:nvGrpSpPr>
                    <p:grpSpPr>
                      <a:xfrm>
                        <a:off x="2617920" y="3325680"/>
                        <a:ext cx="715680" cy="420480"/>
                        <a:chOff x="2617920" y="3325680"/>
                        <a:chExt cx="715680" cy="420480"/>
                      </a:xfrm>
                    </p:grpSpPr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>
                          <a:off x="2754360" y="3325680"/>
                          <a:ext cx="420480" cy="4204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339966"/>
                            </a:gs>
                            <a:gs pos="100000">
                              <a:srgbClr val="1f5f3f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>
                          <a:off x="2617920" y="3366720"/>
                          <a:ext cx="71568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Na</a:t>
                          </a:r>
                          <a:r>
                            <a:rPr b="0" lang="en-US" sz="1600" spc="-1" strike="noStrike" baseline="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+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68" name=""/>
                      <p:cNvSpPr/>
                      <p:nvPr/>
                    </p:nvSpPr>
                    <p:spPr>
                      <a:xfrm flipV="1">
                        <a:off x="2332080" y="2946240"/>
                        <a:ext cx="4649760" cy="6480"/>
                      </a:xfrm>
                      <a:prstGeom prst="line">
                        <a:avLst/>
                      </a:prstGeom>
                      <a:ln cap="rnd" w="255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 flipV="1">
                        <a:off x="2343240" y="4116240"/>
                        <a:ext cx="4649760" cy="6480"/>
                      </a:xfrm>
                      <a:prstGeom prst="line">
                        <a:avLst/>
                      </a:prstGeom>
                      <a:ln cap="rnd" w="255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6384960" y="3794040"/>
                    <a:ext cx="0" cy="298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6886440" y="4281480"/>
                    <a:ext cx="225756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1147b3"/>
                        </a:solidFill>
                        <a:latin typeface="Arial"/>
                      </a:rPr>
                      <a:t>0 K</a:t>
                    </a:r>
                    <a:r>
                      <a:rPr b="1" lang="en-US" sz="1600" spc="-1" strike="noStrike" baseline="30000">
                        <a:solidFill>
                          <a:srgbClr val="1147b3"/>
                        </a:solidFill>
                        <a:latin typeface="Arial"/>
                      </a:rPr>
                      <a:t>+</a:t>
                    </a:r>
                    <a:r>
                      <a:rPr b="1" lang="en-US" sz="1600" spc="-1" strike="noStrike">
                        <a:solidFill>
                          <a:srgbClr val="1147b3"/>
                        </a:solidFill>
                        <a:latin typeface="Arial"/>
                      </a:rPr>
                      <a:t> 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1147b3"/>
                        </a:solidFill>
                        <a:latin typeface="Arial"/>
                      </a:rPr>
                      <a:t>in Depletion Zon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2" name=""/>
              <p:cNvSpPr/>
              <p:nvPr/>
            </p:nvSpPr>
            <p:spPr>
              <a:xfrm>
                <a:off x="3830760" y="3338640"/>
                <a:ext cx="1690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lectivity Fil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4563-3FFD-47C0-AED0-DB05E076BB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224240" y="41306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089240" y="131436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34920" y="13478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33480" y="5337000"/>
            <a:ext cx="2165400" cy="307080"/>
            <a:chOff x="933480" y="5337000"/>
            <a:chExt cx="2165400" cy="307080"/>
          </a:xfrm>
        </p:grpSpPr>
        <p:sp>
          <p:nvSpPr>
            <p:cNvPr id="777" name=""/>
            <p:cNvSpPr/>
            <p:nvPr/>
          </p:nvSpPr>
          <p:spPr>
            <a:xfrm>
              <a:off x="933480" y="533700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ivity Fil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62240" y="5349960"/>
              <a:ext cx="112860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920880" y="409716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089240" y="53276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91040" y="258300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950760" y="25718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03320" y="1027080"/>
            <a:ext cx="6495840" cy="4952880"/>
            <a:chOff x="103320" y="1027080"/>
            <a:chExt cx="6495840" cy="4952880"/>
          </a:xfrm>
        </p:grpSpPr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103320" y="1027080"/>
              <a:ext cx="649584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3133800" y="3284640"/>
              <a:ext cx="711000" cy="20772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g C/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ding Site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700680" y="1014480"/>
            <a:ext cx="24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inding Site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p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our model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tructura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30200" y="658332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da, et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314360" y="1593720"/>
            <a:ext cx="137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6783480" y="1963800"/>
          <a:ext cx="2279520" cy="4732200"/>
        </p:xfrm>
        <a:graphic>
          <a:graphicData uri="http://schemas.openxmlformats.org/drawingml/2006/table">
            <a:tbl>
              <a:tblPr/>
              <a:tblGrid>
                <a:gridCol w="1076400"/>
                <a:gridCol w="1203120"/>
              </a:tblGrid>
              <a:tr h="491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Di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8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600" spc="-1" strike="noStrike" baseline="30000">
                          <a:solidFill>
                            <a:srgbClr val="0076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7600"/>
                          </a:solidFill>
                          <a:latin typeface="Arial"/>
                        </a:rPr>
                        <a:t>2.00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600" spc="-1" strike="noStrike" baseline="30000">
                          <a:solidFill>
                            <a:srgbClr val="cc3399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2.66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48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‘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Chain’ Di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1147b3"/>
                          </a:solidFill>
                          <a:latin typeface="Arial"/>
                        </a:rPr>
                        <a:t>3.00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80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</a:tr>
              <a:tr h="64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Channe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K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a5a7"/>
                        </a:gs>
                        <a:gs pos="50000">
                          <a:srgbClr val="bbe0e3"/>
                        </a:gs>
                        <a:gs pos="100000">
                          <a:srgbClr val="8aa5a7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6953400" y="5425920"/>
          <a:ext cx="50796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3400" y="5425920"/>
                    <a:ext cx="5079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6978600" y="4568760"/>
          <a:ext cx="432000" cy="3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78600" y="4568760"/>
                    <a:ext cx="432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6845400" y="5014800"/>
            <a:ext cx="909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388d"/>
                </a:solidFill>
                <a:latin typeface="Arial"/>
              </a:rPr>
              <a:t>Lys or 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861240" y="5662440"/>
            <a:ext cx="649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434280" y="285840"/>
            <a:ext cx="457200" cy="44424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1160 h 444240"/>
              <a:gd name="textAreaBottom" fmla="*/ 343080 h 44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>
                  <a:alpha val="75294"/>
                </a:srgbClr>
              </a:gs>
              <a:gs pos="100000">
                <a:srgbClr val="9c3824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027240" y="822240"/>
            <a:ext cx="684360" cy="1209600"/>
          </a:xfrm>
          <a:custGeom>
            <a:avLst/>
            <a:gdLst/>
            <a:ahLst/>
            <a:rect l="l" t="t" r="r" b="b"/>
            <a:pathLst>
              <a:path w="431" h="762">
                <a:moveTo>
                  <a:pt x="397" y="0"/>
                </a:moveTo>
                <a:cubicBezTo>
                  <a:pt x="414" y="189"/>
                  <a:pt x="431" y="379"/>
                  <a:pt x="365" y="506"/>
                </a:cubicBezTo>
                <a:cubicBezTo>
                  <a:pt x="299" y="633"/>
                  <a:pt x="63" y="719"/>
                  <a:pt x="0" y="76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6880" y="600120"/>
            <a:ext cx="1834920" cy="1299960"/>
          </a:xfrm>
          <a:custGeom>
            <a:avLst/>
            <a:gdLst/>
            <a:ahLst/>
            <a:rect l="l" t="t" r="r" b="b"/>
            <a:pathLst>
              <a:path w="1156" h="819">
                <a:moveTo>
                  <a:pt x="1156" y="0"/>
                </a:moveTo>
                <a:cubicBezTo>
                  <a:pt x="755" y="21"/>
                  <a:pt x="354" y="43"/>
                  <a:pt x="177" y="179"/>
                </a:cubicBezTo>
                <a:cubicBezTo>
                  <a:pt x="0" y="315"/>
                  <a:pt x="109" y="712"/>
                  <a:pt x="94" y="819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000240" y="906480"/>
            <a:ext cx="606600" cy="1157400"/>
          </a:xfrm>
          <a:custGeom>
            <a:avLst/>
            <a:gdLst/>
            <a:ahLst/>
            <a:rect l="l" t="t" r="r" b="b"/>
            <a:pathLst>
              <a:path w="413" h="825">
                <a:moveTo>
                  <a:pt x="365" y="0"/>
                </a:moveTo>
                <a:cubicBezTo>
                  <a:pt x="389" y="254"/>
                  <a:pt x="413" y="509"/>
                  <a:pt x="352" y="646"/>
                </a:cubicBezTo>
                <a:cubicBezTo>
                  <a:pt x="291" y="783"/>
                  <a:pt x="63" y="795"/>
                  <a:pt x="0" y="825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024360" y="1671480"/>
            <a:ext cx="620640" cy="3341880"/>
          </a:xfrm>
          <a:custGeom>
            <a:avLst/>
            <a:gdLst/>
            <a:ahLst/>
            <a:rect l="l" t="t" r="r" b="b"/>
            <a:pathLst>
              <a:path w="391" h="2105">
                <a:moveTo>
                  <a:pt x="346" y="0"/>
                </a:moveTo>
                <a:cubicBezTo>
                  <a:pt x="368" y="726"/>
                  <a:pt x="391" y="1453"/>
                  <a:pt x="333" y="1779"/>
                </a:cubicBezTo>
                <a:cubicBezTo>
                  <a:pt x="275" y="2105"/>
                  <a:pt x="52" y="1928"/>
                  <a:pt x="0" y="195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20560" y="915840"/>
            <a:ext cx="554040" cy="3853080"/>
          </a:xfrm>
          <a:custGeom>
            <a:avLst/>
            <a:gdLst/>
            <a:ahLst/>
            <a:rect l="l" t="t" r="r" b="b"/>
            <a:pathLst>
              <a:path w="421" h="1819">
                <a:moveTo>
                  <a:pt x="421" y="0"/>
                </a:moveTo>
                <a:cubicBezTo>
                  <a:pt x="221" y="613"/>
                  <a:pt x="22" y="1227"/>
                  <a:pt x="11" y="1523"/>
                </a:cubicBezTo>
                <a:cubicBezTo>
                  <a:pt x="0" y="1819"/>
                  <a:pt x="301" y="1738"/>
                  <a:pt x="357" y="1779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7360" y="6159600"/>
            <a:ext cx="246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NaCl] = [KCl] = 50 m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6103800"/>
            <a:ext cx="329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</a:rPr>
              <a:t>BLA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</a:rPr>
              <a:t>Depletion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724120" y="6535800"/>
            <a:ext cx="354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 vs K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Size Selectivity is in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ple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567320" y="256536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09680" y="438300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89640" y="531648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0560" y="440064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51080" y="164304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47840" y="255276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51480" y="1643040"/>
            <a:ext cx="1128600" cy="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79680" y="1820880"/>
            <a:ext cx="588960" cy="63972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5800 h 639720"/>
              <a:gd name="textAreaBottom" fmla="*/ 493920 h 63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68400" y="1803240"/>
            <a:ext cx="588960" cy="64008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6160 h 640080"/>
              <a:gd name="textAreaBottom" fmla="*/ 493920 h 64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82720" y="4522680"/>
            <a:ext cx="588960" cy="63972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5800 h 639720"/>
              <a:gd name="textAreaBottom" fmla="*/ 493920 h 63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55920" y="4600440"/>
            <a:ext cx="588960" cy="639720"/>
          </a:xfrm>
          <a:custGeom>
            <a:avLst/>
            <a:gdLst>
              <a:gd name="textAreaLeft" fmla="*/ 134280 w 588960"/>
              <a:gd name="textAreaRight" fmla="*/ 454680 w 588960"/>
              <a:gd name="textAreaTop" fmla="*/ 145800 h 639720"/>
              <a:gd name="textAreaBottom" fmla="*/ 493920 h 63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101000" y="0"/>
            <a:ext cx="1869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2571"/>
                </a:solidFill>
                <a:latin typeface="Arial"/>
              </a:rPr>
              <a:t>Size Se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0"/>
            <a:ext cx="1870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2571"/>
                </a:solidFill>
                <a:latin typeface="Arial"/>
              </a:rPr>
              <a:t>Size Se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A3F1-0F9C-4B2D-A98C-BEBBE491B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7440" y="0"/>
            <a:ext cx="840276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ze Selectiv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atio)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ends on Channel Size,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lectric 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9560" y="3276720"/>
            <a:ext cx="1874880" cy="792000"/>
          </a:xfrm>
          <a:prstGeom prst="rect">
            <a:avLst/>
          </a:prstGeom>
          <a:solidFill>
            <a:srgbClr val="b8b8b8">
              <a:alpha val="6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mall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14440" y="2671920"/>
            <a:ext cx="487440" cy="2050920"/>
          </a:xfrm>
          <a:prstGeom prst="upArrow">
            <a:avLst>
              <a:gd name="adj1" fmla="val 50000"/>
              <a:gd name="adj2" fmla="val 105188"/>
            </a:avLst>
          </a:prstGeom>
          <a:gradFill rotWithShape="0">
            <a:gsLst>
              <a:gs pos="0">
                <a:srgbClr val="888888"/>
              </a:gs>
              <a:gs pos="100000">
                <a:srgbClr val="dbdbdb">
                  <a:alpha val="75294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963760" y="1716120"/>
            <a:ext cx="1463760" cy="1558440"/>
            <a:chOff x="5963760" y="1716120"/>
            <a:chExt cx="1463760" cy="1558440"/>
          </a:xfrm>
        </p:grpSpPr>
        <p:sp>
          <p:nvSpPr>
            <p:cNvPr id="823" name=""/>
            <p:cNvSpPr/>
            <p:nvPr/>
          </p:nvSpPr>
          <p:spPr>
            <a:xfrm>
              <a:off x="7423200" y="1716120"/>
              <a:ext cx="4320" cy="15501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963760" y="3264480"/>
              <a:ext cx="1411560" cy="10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762600" y="3611520"/>
            <a:ext cx="2381400" cy="1131840"/>
            <a:chOff x="6762600" y="3611520"/>
            <a:chExt cx="2381400" cy="1131840"/>
          </a:xfrm>
        </p:grpSpPr>
        <p:sp>
          <p:nvSpPr>
            <p:cNvPr id="826" name=""/>
            <p:cNvSpPr/>
            <p:nvPr/>
          </p:nvSpPr>
          <p:spPr>
            <a:xfrm>
              <a:off x="6905520" y="3611520"/>
              <a:ext cx="1133640" cy="1131840"/>
            </a:xfrm>
            <a:prstGeom prst="ellipse">
              <a:avLst/>
            </a:prstGeom>
            <a:gradFill rotWithShape="0">
              <a:gsLst>
                <a:gs pos="0">
                  <a:srgbClr val="00a200">
                    <a:alpha val="13333"/>
                  </a:srgbClr>
                </a:gs>
                <a:gs pos="100000">
                  <a:srgbClr val="006a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62600" y="3664080"/>
              <a:ext cx="1497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2e00"/>
                  </a:solidFill>
                  <a:latin typeface="Arial"/>
                </a:rPr>
                <a:t>Na</a:t>
              </a:r>
              <a:r>
                <a:rPr b="1" lang="en-US" sz="4000" spc="-1" strike="noStrike" baseline="30000">
                  <a:solidFill>
                    <a:srgbClr val="002e00"/>
                  </a:solidFill>
                  <a:latin typeface="Arial"/>
                </a:rPr>
                <a:t>+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16920" y="3921120"/>
              <a:ext cx="102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200"/>
                  </a:solidFill>
                  <a:latin typeface="Arial"/>
                </a:rPr>
                <a:t>2.00 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35600" y="4971960"/>
            <a:ext cx="2530800" cy="1440000"/>
            <a:chOff x="6735600" y="4971960"/>
            <a:chExt cx="2530800" cy="1440000"/>
          </a:xfrm>
        </p:grpSpPr>
        <p:grpSp>
          <p:nvGrpSpPr>
            <p:cNvPr id="830" name=""/>
            <p:cNvGrpSpPr/>
            <p:nvPr/>
          </p:nvGrpSpPr>
          <p:grpSpPr>
            <a:xfrm>
              <a:off x="6735600" y="4971960"/>
              <a:ext cx="1594080" cy="1440000"/>
              <a:chOff x="6735600" y="4971960"/>
              <a:chExt cx="1594080" cy="1440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735600" y="4971960"/>
                <a:ext cx="1425600" cy="1440000"/>
              </a:xfrm>
              <a:prstGeom prst="ellipse">
                <a:avLst/>
              </a:prstGeom>
              <a:gradFill rotWithShape="0">
                <a:gsLst>
                  <a:gs pos="0">
                    <a:srgbClr val="ebb2d8"/>
                  </a:gs>
                  <a:gs pos="100000">
                    <a:srgbClr val="cc3399">
                      <a:alpha val="7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2400" y="5281560"/>
                <a:ext cx="1457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24246e"/>
                    </a:solidFill>
                    <a:latin typeface="Arial"/>
                  </a:rPr>
                  <a:t>K</a:t>
                </a:r>
                <a:r>
                  <a:rPr b="1" lang="en-US" sz="4800" spc="-1" strike="noStrike" baseline="30000">
                    <a:solidFill>
                      <a:srgbClr val="24246e"/>
                    </a:solidFill>
                    <a:latin typeface="Arial"/>
                  </a:rPr>
                  <a:t>+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8148600" y="53830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.66 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6308640" y="64008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842080" y="3027240"/>
            <a:ext cx="119160" cy="884520"/>
          </a:xfrm>
          <a:custGeom>
            <a:avLst/>
            <a:gdLst>
              <a:gd name="textAreaLeft" fmla="*/ 0 w 119160"/>
              <a:gd name="textAreaRight" fmla="*/ 83520 w 119160"/>
              <a:gd name="textAreaTop" fmla="*/ 36720 h 884520"/>
              <a:gd name="textAreaBottom" fmla="*/ 84780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444600" y="4951440"/>
            <a:ext cx="2085840" cy="882720"/>
            <a:chOff x="444600" y="4951440"/>
            <a:chExt cx="2085840" cy="882720"/>
          </a:xfrm>
        </p:grpSpPr>
        <p:grpSp>
          <p:nvGrpSpPr>
            <p:cNvPr id="837" name=""/>
            <p:cNvGrpSpPr/>
            <p:nvPr/>
          </p:nvGrpSpPr>
          <p:grpSpPr>
            <a:xfrm>
              <a:off x="1757520" y="4991040"/>
              <a:ext cx="428400" cy="764280"/>
              <a:chOff x="1757520" y="4991040"/>
              <a:chExt cx="428400" cy="764280"/>
            </a:xfrm>
          </p:grpSpPr>
          <p:sp>
            <p:nvSpPr>
              <p:cNvPr id="838" name=""/>
              <p:cNvSpPr/>
              <p:nvPr/>
            </p:nvSpPr>
            <p:spPr>
              <a:xfrm>
                <a:off x="1757520" y="5334120"/>
                <a:ext cx="428400" cy="407880"/>
              </a:xfrm>
              <a:prstGeom prst="ellipse">
                <a:avLst/>
              </a:prstGeom>
              <a:gradFill rotWithShape="0">
                <a:gsLst>
                  <a:gs pos="0">
                    <a:srgbClr val="eebede"/>
                  </a:gs>
                  <a:gs pos="100000">
                    <a:srgbClr val="cc3399">
                      <a:alpha val="7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790640" y="4991040"/>
                <a:ext cx="374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4246e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24246e"/>
                    </a:solidFill>
                    <a:latin typeface="Arial"/>
                  </a:rPr>
                  <a:t>+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rot="16200000">
              <a:off x="1046160" y="4349880"/>
              <a:ext cx="882720" cy="2085840"/>
            </a:xfrm>
            <a:prstGeom prst="can">
              <a:avLst>
                <a:gd name="adj" fmla="val 25000"/>
              </a:avLst>
            </a:prstGeom>
            <a:noFill/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977760" y="5194440"/>
              <a:ext cx="543240" cy="296640"/>
              <a:chOff x="977760" y="5194440"/>
              <a:chExt cx="543240" cy="296640"/>
            </a:xfrm>
          </p:grpSpPr>
          <p:sp>
            <p:nvSpPr>
              <p:cNvPr id="842" name=""/>
              <p:cNvSpPr/>
              <p:nvPr/>
            </p:nvSpPr>
            <p:spPr>
              <a:xfrm>
                <a:off x="1068480" y="5194440"/>
                <a:ext cx="311040" cy="296640"/>
              </a:xfrm>
              <a:prstGeom prst="ellipse">
                <a:avLst/>
              </a:prstGeom>
              <a:gradFill rotWithShape="0">
                <a:gsLst>
                  <a:gs pos="0">
                    <a:srgbClr val="00bc00">
                      <a:alpha val="4313"/>
                    </a:srgbClr>
                  </a:gs>
                  <a:gs pos="100000">
                    <a:srgbClr val="006b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977760" y="5211720"/>
                <a:ext cx="54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e00"/>
                    </a:solidFill>
                    <a:latin typeface="Arial"/>
                  </a:rPr>
                  <a:t>Na</a:t>
                </a:r>
                <a:r>
                  <a:rPr b="1" lang="en-US" sz="1000" spc="-1" strike="noStrike" baseline="30000">
                    <a:solidFill>
                      <a:srgbClr val="002e00"/>
                    </a:solidFill>
                    <a:latin typeface="Arial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131760" y="1952640"/>
            <a:ext cx="6519960" cy="4724280"/>
            <a:chOff x="131760" y="1952640"/>
            <a:chExt cx="6519960" cy="4724280"/>
          </a:xfrm>
        </p:grpSpPr>
        <p:sp>
          <p:nvSpPr>
            <p:cNvPr id="845" name=""/>
            <p:cNvSpPr/>
            <p:nvPr/>
          </p:nvSpPr>
          <p:spPr>
            <a:xfrm>
              <a:off x="131760" y="630864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oda, et 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2657520" y="1952640"/>
              <a:ext cx="3994200" cy="4552560"/>
              <a:chOff x="2657520" y="1952640"/>
              <a:chExt cx="3994200" cy="4552560"/>
            </a:xfrm>
          </p:grpSpPr>
          <p:pic>
            <p:nvPicPr>
              <p:cNvPr id="8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7520" y="1952640"/>
                <a:ext cx="3620880" cy="423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3108240" y="5862600"/>
                <a:ext cx="3543480" cy="642600"/>
              </a:xfrm>
              <a:prstGeom prst="rect">
                <a:avLst/>
              </a:prstGeom>
              <a:solidFill>
                <a:srgbClr val="d0e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mall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Channel Diameter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arge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 Å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360600" y="5608800"/>
              <a:ext cx="3108600" cy="24372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                     8                   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429B7-F069-4F59-9D47-79BE045145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ze Sele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pend on protein dielectric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cupancy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pends on Protein Dielectric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electric ‘Amplifies’ Charge &amp; Electrostat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-114480" y="1301760"/>
            <a:ext cx="9398160" cy="5558040"/>
            <a:chOff x="-114480" y="1301760"/>
            <a:chExt cx="9398160" cy="5558040"/>
          </a:xfrm>
        </p:grpSpPr>
        <p:grpSp>
          <p:nvGrpSpPr>
            <p:cNvPr id="852" name=""/>
            <p:cNvGrpSpPr/>
            <p:nvPr/>
          </p:nvGrpSpPr>
          <p:grpSpPr>
            <a:xfrm>
              <a:off x="-114480" y="1320840"/>
              <a:ext cx="9398160" cy="5538960"/>
              <a:chOff x="-114480" y="1320840"/>
              <a:chExt cx="9398160" cy="5538960"/>
            </a:xfrm>
          </p:grpSpPr>
          <p:graphicFrame>
            <p:nvGraphicFramePr>
              <p:cNvPr id="853" name=""/>
              <p:cNvGraphicFramePr/>
              <p:nvPr/>
            </p:nvGraphicFramePr>
            <p:xfrm>
              <a:off x="4175280" y="6566040"/>
              <a:ext cx="1028520" cy="291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175280" y="6566040"/>
                        <a:ext cx="1028520" cy="29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9080" y="1560600"/>
                <a:ext cx="6639120" cy="46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3192480" y="5911920"/>
                <a:ext cx="30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Dielectric Coefficient =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f Prote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57" name=""/>
              <p:cNvGraphicFramePr/>
              <p:nvPr/>
            </p:nvGraphicFramePr>
            <p:xfrm>
              <a:off x="2519280" y="5938920"/>
              <a:ext cx="830520" cy="453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5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519280" y="5938920"/>
                        <a:ext cx="830520" cy="45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59" name=""/>
              <p:cNvGraphicFramePr/>
              <p:nvPr/>
            </p:nvGraphicFramePr>
            <p:xfrm>
              <a:off x="6186600" y="5886360"/>
              <a:ext cx="812520" cy="4446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86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186600" y="5886360"/>
                        <a:ext cx="81252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1" name=""/>
              <p:cNvSpPr/>
              <p:nvPr/>
            </p:nvSpPr>
            <p:spPr>
              <a:xfrm rot="16200000">
                <a:off x="-48960" y="2296800"/>
                <a:ext cx="157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ccupanc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6583320"/>
                <a:ext cx="168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Boda, et 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24680" y="1320840"/>
                <a:ext cx="225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KA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 Channel,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 Å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452600" y="1461960"/>
                <a:ext cx="1006560" cy="3208320"/>
              </a:xfrm>
              <a:custGeom>
                <a:avLst/>
                <a:gdLst>
                  <a:gd name="textAreaLeft" fmla="*/ 48960 w 1006560"/>
                  <a:gd name="textAreaRight" fmla="*/ 957600 w 1006560"/>
                  <a:gd name="textAreaTop" fmla="*/ 48960 h 3208320"/>
                  <a:gd name="textAreaBottom" fmla="*/ 3159360 h 3208320"/>
                </a:gdLst>
                <a:ahLst/>
                <a:rect l="textAreaLeft" t="textAreaTop" r="textAreaRight" b="textAreaBottom"/>
                <a:pathLst>
                  <a:path w="21600" h="68831">
                    <a:moveTo>
                      <a:pt x="3600" y="0"/>
                    </a:moveTo>
                    <a:arcTo wR="3600" hR="3600" stAng="16200000" swAng="-5400000"/>
                    <a:lnTo>
                      <a:pt x="0" y="65231"/>
                    </a:lnTo>
                    <a:arcTo wR="3600" hR="3600" stAng="10800000" swAng="-5400000"/>
                    <a:lnTo>
                      <a:pt x="18000" y="688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a5afe"/>
                  </a:gs>
                  <a:gs pos="50000">
                    <a:srgbClr val="0000ff">
                      <a:alpha val="3137"/>
                    </a:srgbClr>
                  </a:gs>
                  <a:gs pos="100000">
                    <a:srgbClr val="5a5afe"/>
                  </a:gs>
                </a:gsLst>
                <a:lin ang="10800000"/>
              </a:gradFill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17400" y="1812960"/>
                <a:ext cx="304920" cy="200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-114480" y="4314960"/>
                <a:ext cx="1425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ccupancy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#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36520" y="1668600"/>
                <a:ext cx="403200" cy="2604960"/>
              </a:xfrm>
              <a:prstGeom prst="upArrow">
                <a:avLst>
                  <a:gd name="adj1" fmla="val 49602"/>
                  <a:gd name="adj2" fmla="val 179165"/>
                </a:avLst>
              </a:prstGeom>
              <a:solidFill>
                <a:srgbClr val="808080">
                  <a:alpha val="24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892760" y="1552680"/>
                <a:ext cx="1055520" cy="3117600"/>
              </a:xfrm>
              <a:custGeom>
                <a:avLst/>
                <a:gdLst>
                  <a:gd name="textAreaLeft" fmla="*/ 51480 w 1055520"/>
                  <a:gd name="textAreaRight" fmla="*/ 1004040 w 1055520"/>
                  <a:gd name="textAreaTop" fmla="*/ 51480 h 3117600"/>
                  <a:gd name="textAreaBottom" fmla="*/ 3066120 h 3117600"/>
                </a:gdLst>
                <a:ahLst/>
                <a:rect l="textAreaLeft" t="textAreaTop" r="textAreaRight" b="textAreaBottom"/>
                <a:pathLst>
                  <a:path w="21600" h="63784">
                    <a:moveTo>
                      <a:pt x="3600" y="0"/>
                    </a:moveTo>
                    <a:arcTo wR="3600" hR="3600" stAng="16200000" swAng="-5400000"/>
                    <a:lnTo>
                      <a:pt x="0" y="60184"/>
                    </a:lnTo>
                    <a:arcTo wR="3600" hR="3600" stAng="10800000" swAng="-5400000"/>
                    <a:lnTo>
                      <a:pt x="18000" y="637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4242"/>
                  </a:gs>
                  <a:gs pos="50000">
                    <a:srgbClr val="ff0000">
                      <a:alpha val="3137"/>
                    </a:srgbClr>
                  </a:gs>
                  <a:gs pos="100000">
                    <a:srgbClr val="fe4242"/>
                  </a:gs>
                </a:gsLst>
                <a:lin ang="10800000"/>
              </a:gradFill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737480" y="2063880"/>
                <a:ext cx="914400" cy="927000"/>
              </a:xfrm>
              <a:prstGeom prst="ellipse">
                <a:avLst/>
              </a:prstGeom>
              <a:gradFill rotWithShape="0">
                <a:gsLst>
                  <a:gs pos="0">
                    <a:srgbClr val="009600">
                      <a:alpha val="8235"/>
                    </a:srgbClr>
                  </a:gs>
                  <a:gs pos="100000">
                    <a:srgbClr val="0055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67640" y="1844640"/>
                <a:ext cx="1173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00"/>
                    </a:solidFill>
                    <a:latin typeface="Arial"/>
                  </a:rPr>
                  <a:t>Na</a:t>
                </a:r>
                <a:r>
                  <a:rPr b="1" lang="en-US" sz="2800" spc="-1" strike="noStrike" baseline="30000">
                    <a:solidFill>
                      <a:srgbClr val="002e00"/>
                    </a:solidFill>
                    <a:latin typeface="Arial"/>
                  </a:rPr>
                  <a:t>+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823160" y="2486160"/>
                <a:ext cx="8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.0 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4280" y="3306600"/>
                <a:ext cx="1361880" cy="1363680"/>
              </a:xfrm>
              <a:prstGeom prst="ellipse">
                <a:avLst/>
              </a:prstGeom>
              <a:gradFill rotWithShape="0">
                <a:gsLst>
                  <a:gs pos="0">
                    <a:srgbClr val="eebede"/>
                  </a:gs>
                  <a:gs pos="100000">
                    <a:srgbClr val="cc3399">
                      <a:alpha val="7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37640" y="3457440"/>
                <a:ext cx="857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4246e"/>
                    </a:solidFill>
                    <a:latin typeface="Arial"/>
                  </a:rPr>
                  <a:t>K</a:t>
                </a:r>
                <a:r>
                  <a:rPr b="1" lang="en-US" sz="4000" spc="-1" strike="noStrike" baseline="30000">
                    <a:solidFill>
                      <a:srgbClr val="24246e"/>
                    </a:solidFill>
                    <a:latin typeface="Arial"/>
                  </a:rPr>
                  <a:t>+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97680" y="4152960"/>
                <a:ext cx="87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2.66</a:t>
                </a:r>
                <a:r>
                  <a:rPr b="0" lang="en-US" sz="8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5" name=""/>
              <p:cNvCxnSpPr>
                <a:stCxn id="872" idx="2"/>
                <a:endCxn id="872" idx="6"/>
              </p:cNvCxnSpPr>
              <p:nvPr/>
            </p:nvCxnSpPr>
            <p:spPr>
              <a:xfrm>
                <a:off x="7591320" y="3989160"/>
                <a:ext cx="1388160" cy="1080"/>
              </a:xfrm>
              <a:prstGeom prst="straightConnector1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876" name=""/>
            <p:cNvGrpSpPr/>
            <p:nvPr/>
          </p:nvGrpSpPr>
          <p:grpSpPr>
            <a:xfrm>
              <a:off x="2425320" y="1301760"/>
              <a:ext cx="2497680" cy="322200"/>
              <a:chOff x="2425320" y="1301760"/>
              <a:chExt cx="2497680" cy="322200"/>
            </a:xfrm>
          </p:grpSpPr>
          <p:sp>
            <p:nvSpPr>
              <p:cNvPr id="877" name=""/>
              <p:cNvSpPr/>
              <p:nvPr/>
            </p:nvSpPr>
            <p:spPr>
              <a:xfrm flipH="1">
                <a:off x="2425320" y="1309680"/>
                <a:ext cx="2241720" cy="314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667400" y="1301760"/>
                <a:ext cx="255600" cy="314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8FD7D-8268-497D-B92E-919AAEFD3E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8200" y="21060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* ar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u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31840" y="49039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Selectivity is in the Depletion Zo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THE BINDING SI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EKA Na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1360440"/>
            <a:ext cx="880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model h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eform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binding sites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vity is very Spe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771560" y="4838760"/>
            <a:ext cx="5613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AA0B-D6D3-4EDF-B873-3412B2B30D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68360" y="366480"/>
            <a:ext cx="8391600" cy="3284280"/>
            <a:chOff x="468360" y="366480"/>
            <a:chExt cx="8391600" cy="3284280"/>
          </a:xfrm>
        </p:grpSpPr>
        <p:sp>
          <p:nvSpPr>
            <p:cNvPr id="884" name=""/>
            <p:cNvSpPr/>
            <p:nvPr/>
          </p:nvSpPr>
          <p:spPr>
            <a:xfrm>
              <a:off x="2033640" y="3185640"/>
              <a:ext cx="1809720" cy="351360"/>
            </a:xfrm>
            <a:prstGeom prst="wedgeEllipseCallout">
              <a:avLst>
                <a:gd name="adj1" fmla="val -25703"/>
                <a:gd name="adj2" fmla="val -227861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ul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PlaceHolder 1"/>
            <p:cNvSpPr>
              <a:spLocks noGrp="1"/>
            </p:cNvSpPr>
            <p:nvPr>
              <p:ph type="title"/>
            </p:nvPr>
          </p:nvSpPr>
          <p:spPr>
            <a:xfrm>
              <a:off x="468360" y="366480"/>
              <a:ext cx="8391600" cy="3284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Binding Sites </a:t>
              </a:r>
              <a:br>
                <a:rPr sz="4400"/>
              </a:br>
              <a:r>
                <a:rPr b="1" lang="en-US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Electrostatic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Attraction</a:t>
              </a:r>
              <a:br>
                <a:rPr sz="4400"/>
              </a:br>
              <a:r>
                <a:rPr b="1" lang="en-US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Steric Competition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for Space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982800" y="461016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and Strength of Binding Sites Depend on Ionic Concentration and Tempera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8945-D4A3-4B78-915A-6584BBF69C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6c7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e0000"/>
                </a:solidFill>
                <a:uFillTx/>
                <a:latin typeface="Arial"/>
              </a:rPr>
              <a:t>What does the protein do</a:t>
            </a:r>
            <a:r>
              <a:rPr b="1" lang="en-US" sz="4400" spc="-1" strike="noStrike">
                <a:solidFill>
                  <a:srgbClr val="b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116532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lectivity arises fro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statics and Crowding of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ertain</a:t>
            </a: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 MEASURES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f structure are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owerfu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DETERMINANT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f Function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.g., Volume, Dielectric Coefficient, etc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Precise Arrangement of Atoms is </a:t>
            </a:r>
            <a:r>
              <a:rPr b="1" lang="en-US" sz="3200" spc="-1" strike="noStrike" u="sng">
                <a:solidFill>
                  <a:srgbClr val="be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 involve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the model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 first 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43480" y="6164280"/>
            <a:ext cx="29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ner and Eisen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3163-635E-434D-9561-70ECC5F5A2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6c7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714240"/>
            <a:ext cx="914400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ein maintains </a:t>
            </a:r>
            <a:br>
              <a:rPr sz="3200"/>
            </a:br>
            <a:r>
              <a:rPr b="1" lang="en-US" sz="3200" spc="-1" strike="noStrike" u="sng">
                <a:solidFill>
                  <a:srgbClr val="007e00"/>
                </a:solidFill>
                <a:uFillTx/>
                <a:latin typeface="Arial"/>
              </a:rPr>
              <a:t>Mechanical Forces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*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olume of Pore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electric Coefficient/Bounda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manent Charge</a:t>
            </a:r>
            <a:br>
              <a:rPr sz="32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Precise Arrangement of Atoms is </a:t>
            </a:r>
            <a:r>
              <a:rPr b="1" lang="en-US" sz="3200" spc="-1" strike="noStrike" u="sng">
                <a:solidFill>
                  <a:srgbClr val="be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be0000"/>
                </a:solidFill>
                <a:latin typeface="Arial"/>
              </a:rPr>
              <a:t> involve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the model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 first 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ut</a:t>
            </a:r>
            <a:br>
              <a:rPr sz="18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icular propertie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‘measures’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protein are crucial!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e0000"/>
                </a:solidFill>
                <a:uFillTx/>
                <a:latin typeface="Arial"/>
              </a:rPr>
              <a:t>What does the protein do</a:t>
            </a:r>
            <a:r>
              <a:rPr b="1" lang="en-US" sz="4400" spc="-1" strike="noStrike">
                <a:solidFill>
                  <a:srgbClr val="b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945040" y="6521400"/>
            <a:ext cx="29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ner and Eisen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663560" y="3297240"/>
            <a:ext cx="58341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e00"/>
                </a:solidFill>
                <a:latin typeface="Arial"/>
              </a:rPr>
              <a:t>*?? Driving force for conformation changes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8533-4DF1-4560-A71F-892DAF34C5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892160" y="658332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e of ompF porin by Raimund Dut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0"/>
            <a:ext cx="8099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on Channels are Biological Devices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Valves*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in Controllers of Biological Function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46840" y="4245120"/>
            <a:ext cx="3197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u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Val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81520" y="5803920"/>
            <a:ext cx="1494000" cy="474480"/>
          </a:xfrm>
          <a:prstGeom prst="wedgeRoundRectCallout">
            <a:avLst>
              <a:gd name="adj1" fmla="val 796"/>
              <a:gd name="adj2" fmla="val -257694"/>
              <a:gd name="adj3" fmla="val 16667"/>
            </a:avLst>
          </a:prstGeom>
          <a:gradFill rotWithShape="0">
            <a:gsLst>
              <a:gs pos="0">
                <a:srgbClr val="7b9395"/>
              </a:gs>
              <a:gs pos="50000">
                <a:srgbClr val="bbe0e3"/>
              </a:gs>
              <a:gs pos="100000">
                <a:srgbClr val="7b939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0000"/>
                </a:solidFill>
                <a:latin typeface="Arial"/>
              </a:rPr>
              <a:t>BritS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090880" y="2008080"/>
            <a:ext cx="3215520" cy="4577400"/>
            <a:chOff x="2090880" y="2008080"/>
            <a:chExt cx="3215520" cy="4577400"/>
          </a:xfrm>
        </p:grpSpPr>
        <p:grpSp>
          <p:nvGrpSpPr>
            <p:cNvPr id="435" name=""/>
            <p:cNvGrpSpPr/>
            <p:nvPr/>
          </p:nvGrpSpPr>
          <p:grpSpPr>
            <a:xfrm>
              <a:off x="2090880" y="2008080"/>
              <a:ext cx="3215520" cy="4577400"/>
              <a:chOff x="2090880" y="2008080"/>
              <a:chExt cx="3215520" cy="45774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090880" y="2008080"/>
                <a:ext cx="3215520" cy="4577400"/>
                <a:chOff x="2090880" y="2008080"/>
                <a:chExt cx="3215520" cy="457740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2166120" y="6051600"/>
                  <a:ext cx="3140280" cy="533880"/>
                  <a:chOff x="2166120" y="6051600"/>
                  <a:chExt cx="3140280" cy="533880"/>
                </a:xfrm>
              </p:grpSpPr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2755800" y="6051600"/>
                    <a:ext cx="1636920" cy="337320"/>
                    <a:chOff x="2755800" y="6051600"/>
                    <a:chExt cx="1636920" cy="3373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flipV="1">
                      <a:off x="2755800" y="6054120"/>
                      <a:ext cx="163692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3197160" y="6051600"/>
                      <a:ext cx="701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30 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>
                    <a:off x="2166120" y="6278400"/>
                    <a:ext cx="3140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Flow time scale is  0.1 msec to mi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42" name="" descr=""/>
                <p:cNvPicPr/>
                <p:nvPr/>
              </p:nvPicPr>
              <p:blipFill>
                <a:blip r:embed="rId1"/>
                <a:srcRect l="14020" t="6349" r="11248" b="1614"/>
                <a:stretch/>
              </p:blipFill>
              <p:spPr>
                <a:xfrm>
                  <a:off x="2090880" y="2008080"/>
                  <a:ext cx="2789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3" name=""/>
              <p:cNvSpPr/>
              <p:nvPr/>
            </p:nvSpPr>
            <p:spPr>
              <a:xfrm>
                <a:off x="3719520" y="2266920"/>
                <a:ext cx="961920" cy="51912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262240" y="2147760"/>
              <a:ext cx="1869840" cy="3469680"/>
              <a:chOff x="2262240" y="2147760"/>
              <a:chExt cx="1869840" cy="346968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2262240" y="5263920"/>
                <a:ext cx="745920" cy="353520"/>
                <a:chOff x="2262240" y="5263920"/>
                <a:chExt cx="745920" cy="353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458800" y="5283360"/>
                  <a:ext cx="344520" cy="323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262240" y="5263920"/>
                  <a:ext cx="74592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bbe0e3"/>
                      </a:solidFill>
                      <a:latin typeface="Arial"/>
                    </a:rPr>
                    <a:t>K</a:t>
                  </a:r>
                  <a:r>
                    <a:rPr b="0" lang="en-US" sz="1600" spc="-1" strike="noStrike" baseline="50000">
                      <a:solidFill>
                        <a:srgbClr val="bbe0e3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765160" y="2147760"/>
                <a:ext cx="1366920" cy="3170160"/>
                <a:chOff x="2765160" y="2147760"/>
                <a:chExt cx="1366920" cy="3170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765160" y="2281320"/>
                  <a:ext cx="1366920" cy="3036600"/>
                </a:xfrm>
                <a:custGeom>
                  <a:avLst/>
                  <a:gdLst/>
                  <a:ahLst/>
                  <a:rect l="l" t="t" r="r" b="b"/>
                  <a:pathLst>
                    <a:path w="861" h="1857">
                      <a:moveTo>
                        <a:pt x="0" y="1857"/>
                      </a:moveTo>
                      <a:cubicBezTo>
                        <a:pt x="36" y="1834"/>
                        <a:pt x="91" y="1828"/>
                        <a:pt x="133" y="1820"/>
                      </a:cubicBezTo>
                      <a:cubicBezTo>
                        <a:pt x="188" y="1799"/>
                        <a:pt x="250" y="1792"/>
                        <a:pt x="308" y="1779"/>
                      </a:cubicBezTo>
                      <a:cubicBezTo>
                        <a:pt x="280" y="1768"/>
                        <a:pt x="268" y="1763"/>
                        <a:pt x="230" y="1756"/>
                      </a:cubicBezTo>
                      <a:cubicBezTo>
                        <a:pt x="205" y="1751"/>
                        <a:pt x="181" y="1747"/>
                        <a:pt x="156" y="1742"/>
                      </a:cubicBezTo>
                      <a:cubicBezTo>
                        <a:pt x="148" y="1741"/>
                        <a:pt x="133" y="1738"/>
                        <a:pt x="133" y="1738"/>
                      </a:cubicBezTo>
                      <a:cubicBezTo>
                        <a:pt x="147" y="1737"/>
                        <a:pt x="290" y="1746"/>
                        <a:pt x="226" y="1701"/>
                      </a:cubicBezTo>
                      <a:cubicBezTo>
                        <a:pt x="237" y="1678"/>
                        <a:pt x="237" y="1670"/>
                        <a:pt x="262" y="1664"/>
                      </a:cubicBezTo>
                      <a:cubicBezTo>
                        <a:pt x="268" y="1661"/>
                        <a:pt x="282" y="1662"/>
                        <a:pt x="281" y="1655"/>
                      </a:cubicBezTo>
                      <a:cubicBezTo>
                        <a:pt x="279" y="1646"/>
                        <a:pt x="266" y="1645"/>
                        <a:pt x="258" y="1641"/>
                      </a:cubicBezTo>
                      <a:cubicBezTo>
                        <a:pt x="233" y="1629"/>
                        <a:pt x="211" y="1623"/>
                        <a:pt x="184" y="1618"/>
                      </a:cubicBezTo>
                      <a:cubicBezTo>
                        <a:pt x="176" y="1615"/>
                        <a:pt x="169" y="1611"/>
                        <a:pt x="161" y="1609"/>
                      </a:cubicBezTo>
                      <a:cubicBezTo>
                        <a:pt x="149" y="1605"/>
                        <a:pt x="124" y="1599"/>
                        <a:pt x="124" y="1599"/>
                      </a:cubicBezTo>
                      <a:cubicBezTo>
                        <a:pt x="116" y="1601"/>
                        <a:pt x="92" y="1607"/>
                        <a:pt x="92" y="1609"/>
                      </a:cubicBezTo>
                      <a:cubicBezTo>
                        <a:pt x="88" y="1624"/>
                        <a:pt x="124" y="1633"/>
                        <a:pt x="133" y="1636"/>
                      </a:cubicBezTo>
                      <a:cubicBezTo>
                        <a:pt x="126" y="1597"/>
                        <a:pt x="100" y="1591"/>
                        <a:pt x="73" y="1567"/>
                      </a:cubicBezTo>
                      <a:cubicBezTo>
                        <a:pt x="84" y="1537"/>
                        <a:pt x="116" y="1538"/>
                        <a:pt x="143" y="1535"/>
                      </a:cubicBezTo>
                      <a:cubicBezTo>
                        <a:pt x="163" y="1543"/>
                        <a:pt x="181" y="1556"/>
                        <a:pt x="202" y="1562"/>
                      </a:cubicBezTo>
                      <a:cubicBezTo>
                        <a:pt x="242" y="1574"/>
                        <a:pt x="272" y="1572"/>
                        <a:pt x="308" y="1590"/>
                      </a:cubicBezTo>
                      <a:cubicBezTo>
                        <a:pt x="352" y="1646"/>
                        <a:pt x="393" y="1699"/>
                        <a:pt x="465" y="1719"/>
                      </a:cubicBezTo>
                      <a:cubicBezTo>
                        <a:pt x="458" y="1693"/>
                        <a:pt x="488" y="1648"/>
                        <a:pt x="451" y="1659"/>
                      </a:cubicBezTo>
                      <a:cubicBezTo>
                        <a:pt x="443" y="1704"/>
                        <a:pt x="458" y="1755"/>
                        <a:pt x="507" y="1765"/>
                      </a:cubicBezTo>
                      <a:cubicBezTo>
                        <a:pt x="519" y="1764"/>
                        <a:pt x="533" y="1768"/>
                        <a:pt x="543" y="1761"/>
                      </a:cubicBezTo>
                      <a:cubicBezTo>
                        <a:pt x="550" y="1755"/>
                        <a:pt x="548" y="1742"/>
                        <a:pt x="548" y="1733"/>
                      </a:cubicBezTo>
                      <a:cubicBezTo>
                        <a:pt x="548" y="1709"/>
                        <a:pt x="520" y="1650"/>
                        <a:pt x="507" y="1627"/>
                      </a:cubicBezTo>
                      <a:cubicBezTo>
                        <a:pt x="500" y="1600"/>
                        <a:pt x="489" y="1527"/>
                        <a:pt x="479" y="1512"/>
                      </a:cubicBezTo>
                      <a:cubicBezTo>
                        <a:pt x="463" y="1489"/>
                        <a:pt x="444" y="1469"/>
                        <a:pt x="428" y="1447"/>
                      </a:cubicBezTo>
                      <a:cubicBezTo>
                        <a:pt x="431" y="1437"/>
                        <a:pt x="442" y="1430"/>
                        <a:pt x="442" y="1420"/>
                      </a:cubicBezTo>
                      <a:cubicBezTo>
                        <a:pt x="442" y="1405"/>
                        <a:pt x="366" y="1383"/>
                        <a:pt x="355" y="1378"/>
                      </a:cubicBezTo>
                      <a:cubicBezTo>
                        <a:pt x="334" y="1368"/>
                        <a:pt x="305" y="1350"/>
                        <a:pt x="281" y="1346"/>
                      </a:cubicBezTo>
                      <a:cubicBezTo>
                        <a:pt x="248" y="1341"/>
                        <a:pt x="244" y="1343"/>
                        <a:pt x="216" y="1337"/>
                      </a:cubicBezTo>
                      <a:cubicBezTo>
                        <a:pt x="187" y="1331"/>
                        <a:pt x="163" y="1322"/>
                        <a:pt x="133" y="1318"/>
                      </a:cubicBezTo>
                      <a:cubicBezTo>
                        <a:pt x="194" y="1287"/>
                        <a:pt x="261" y="1259"/>
                        <a:pt x="327" y="1240"/>
                      </a:cubicBezTo>
                      <a:cubicBezTo>
                        <a:pt x="360" y="1220"/>
                        <a:pt x="395" y="1199"/>
                        <a:pt x="433" y="1194"/>
                      </a:cubicBezTo>
                      <a:cubicBezTo>
                        <a:pt x="473" y="1179"/>
                        <a:pt x="456" y="1190"/>
                        <a:pt x="424" y="1180"/>
                      </a:cubicBezTo>
                      <a:cubicBezTo>
                        <a:pt x="412" y="1176"/>
                        <a:pt x="402" y="1167"/>
                        <a:pt x="391" y="1162"/>
                      </a:cubicBezTo>
                      <a:cubicBezTo>
                        <a:pt x="359" y="1129"/>
                        <a:pt x="342" y="1085"/>
                        <a:pt x="304" y="1060"/>
                      </a:cubicBezTo>
                      <a:cubicBezTo>
                        <a:pt x="292" y="1042"/>
                        <a:pt x="275" y="1036"/>
                        <a:pt x="258" y="1023"/>
                      </a:cubicBezTo>
                      <a:cubicBezTo>
                        <a:pt x="289" y="983"/>
                        <a:pt x="337" y="989"/>
                        <a:pt x="382" y="977"/>
                      </a:cubicBezTo>
                      <a:cubicBezTo>
                        <a:pt x="446" y="986"/>
                        <a:pt x="433" y="997"/>
                        <a:pt x="428" y="1065"/>
                      </a:cubicBezTo>
                      <a:cubicBezTo>
                        <a:pt x="389" y="1026"/>
                        <a:pt x="345" y="985"/>
                        <a:pt x="295" y="959"/>
                      </a:cubicBezTo>
                      <a:cubicBezTo>
                        <a:pt x="283" y="953"/>
                        <a:pt x="270" y="951"/>
                        <a:pt x="258" y="945"/>
                      </a:cubicBezTo>
                      <a:cubicBezTo>
                        <a:pt x="230" y="899"/>
                        <a:pt x="241" y="886"/>
                        <a:pt x="249" y="825"/>
                      </a:cubicBezTo>
                      <a:cubicBezTo>
                        <a:pt x="239" y="816"/>
                        <a:pt x="223" y="810"/>
                        <a:pt x="221" y="797"/>
                      </a:cubicBezTo>
                      <a:cubicBezTo>
                        <a:pt x="216" y="758"/>
                        <a:pt x="275" y="757"/>
                        <a:pt x="299" y="751"/>
                      </a:cubicBezTo>
                      <a:cubicBezTo>
                        <a:pt x="351" y="754"/>
                        <a:pt x="397" y="761"/>
                        <a:pt x="447" y="747"/>
                      </a:cubicBezTo>
                      <a:cubicBezTo>
                        <a:pt x="421" y="771"/>
                        <a:pt x="475" y="768"/>
                        <a:pt x="488" y="770"/>
                      </a:cubicBezTo>
                      <a:cubicBezTo>
                        <a:pt x="657" y="750"/>
                        <a:pt x="596" y="760"/>
                        <a:pt x="672" y="747"/>
                      </a:cubicBezTo>
                      <a:cubicBezTo>
                        <a:pt x="640" y="759"/>
                        <a:pt x="621" y="782"/>
                        <a:pt x="590" y="797"/>
                      </a:cubicBezTo>
                      <a:cubicBezTo>
                        <a:pt x="568" y="819"/>
                        <a:pt x="551" y="840"/>
                        <a:pt x="525" y="857"/>
                      </a:cubicBezTo>
                      <a:cubicBezTo>
                        <a:pt x="512" y="809"/>
                        <a:pt x="531" y="707"/>
                        <a:pt x="493" y="678"/>
                      </a:cubicBezTo>
                      <a:cubicBezTo>
                        <a:pt x="475" y="664"/>
                        <a:pt x="438" y="656"/>
                        <a:pt x="419" y="650"/>
                      </a:cubicBezTo>
                      <a:cubicBezTo>
                        <a:pt x="325" y="656"/>
                        <a:pt x="358" y="642"/>
                        <a:pt x="318" y="682"/>
                      </a:cubicBezTo>
                      <a:cubicBezTo>
                        <a:pt x="264" y="674"/>
                        <a:pt x="228" y="648"/>
                        <a:pt x="179" y="632"/>
                      </a:cubicBezTo>
                      <a:cubicBezTo>
                        <a:pt x="172" y="655"/>
                        <a:pt x="154" y="651"/>
                        <a:pt x="133" y="645"/>
                      </a:cubicBezTo>
                      <a:cubicBezTo>
                        <a:pt x="95" y="634"/>
                        <a:pt x="63" y="612"/>
                        <a:pt x="27" y="599"/>
                      </a:cubicBezTo>
                      <a:cubicBezTo>
                        <a:pt x="42" y="640"/>
                        <a:pt x="99" y="616"/>
                        <a:pt x="129" y="609"/>
                      </a:cubicBezTo>
                      <a:cubicBezTo>
                        <a:pt x="161" y="593"/>
                        <a:pt x="192" y="574"/>
                        <a:pt x="226" y="562"/>
                      </a:cubicBezTo>
                      <a:cubicBezTo>
                        <a:pt x="250" y="571"/>
                        <a:pt x="243" y="594"/>
                        <a:pt x="262" y="609"/>
                      </a:cubicBezTo>
                      <a:cubicBezTo>
                        <a:pt x="268" y="614"/>
                        <a:pt x="277" y="615"/>
                        <a:pt x="285" y="618"/>
                      </a:cubicBezTo>
                      <a:cubicBezTo>
                        <a:pt x="326" y="614"/>
                        <a:pt x="338" y="609"/>
                        <a:pt x="373" y="595"/>
                      </a:cubicBezTo>
                      <a:cubicBezTo>
                        <a:pt x="463" y="620"/>
                        <a:pt x="506" y="673"/>
                        <a:pt x="580" y="710"/>
                      </a:cubicBezTo>
                      <a:cubicBezTo>
                        <a:pt x="636" y="706"/>
                        <a:pt x="654" y="705"/>
                        <a:pt x="700" y="692"/>
                      </a:cubicBezTo>
                      <a:cubicBezTo>
                        <a:pt x="682" y="682"/>
                        <a:pt x="665" y="679"/>
                        <a:pt x="645" y="673"/>
                      </a:cubicBezTo>
                      <a:cubicBezTo>
                        <a:pt x="607" y="645"/>
                        <a:pt x="562" y="637"/>
                        <a:pt x="516" y="632"/>
                      </a:cubicBezTo>
                      <a:cubicBezTo>
                        <a:pt x="466" y="576"/>
                        <a:pt x="406" y="489"/>
                        <a:pt x="327" y="475"/>
                      </a:cubicBezTo>
                      <a:cubicBezTo>
                        <a:pt x="312" y="404"/>
                        <a:pt x="421" y="387"/>
                        <a:pt x="470" y="369"/>
                      </a:cubicBezTo>
                      <a:cubicBezTo>
                        <a:pt x="526" y="375"/>
                        <a:pt x="507" y="370"/>
                        <a:pt x="553" y="383"/>
                      </a:cubicBezTo>
                      <a:cubicBezTo>
                        <a:pt x="559" y="385"/>
                        <a:pt x="534" y="378"/>
                        <a:pt x="534" y="378"/>
                      </a:cubicBezTo>
                      <a:cubicBezTo>
                        <a:pt x="513" y="347"/>
                        <a:pt x="520" y="361"/>
                        <a:pt x="511" y="337"/>
                      </a:cubicBezTo>
                      <a:cubicBezTo>
                        <a:pt x="513" y="317"/>
                        <a:pt x="510" y="296"/>
                        <a:pt x="516" y="277"/>
                      </a:cubicBezTo>
                      <a:cubicBezTo>
                        <a:pt x="527" y="242"/>
                        <a:pt x="546" y="282"/>
                        <a:pt x="525" y="249"/>
                      </a:cubicBezTo>
                      <a:cubicBezTo>
                        <a:pt x="516" y="216"/>
                        <a:pt x="544" y="202"/>
                        <a:pt x="507" y="194"/>
                      </a:cubicBezTo>
                      <a:cubicBezTo>
                        <a:pt x="572" y="161"/>
                        <a:pt x="474" y="212"/>
                        <a:pt x="543" y="171"/>
                      </a:cubicBezTo>
                      <a:cubicBezTo>
                        <a:pt x="553" y="165"/>
                        <a:pt x="608" y="156"/>
                        <a:pt x="553" y="166"/>
                      </a:cubicBezTo>
                      <a:cubicBezTo>
                        <a:pt x="548" y="168"/>
                        <a:pt x="544" y="170"/>
                        <a:pt x="539" y="171"/>
                      </a:cubicBezTo>
                      <a:cubicBezTo>
                        <a:pt x="533" y="173"/>
                        <a:pt x="526" y="173"/>
                        <a:pt x="520" y="175"/>
                      </a:cubicBezTo>
                      <a:cubicBezTo>
                        <a:pt x="511" y="178"/>
                        <a:pt x="493" y="185"/>
                        <a:pt x="493" y="185"/>
                      </a:cubicBezTo>
                      <a:cubicBezTo>
                        <a:pt x="524" y="187"/>
                        <a:pt x="584" y="182"/>
                        <a:pt x="613" y="208"/>
                      </a:cubicBezTo>
                      <a:cubicBezTo>
                        <a:pt x="636" y="228"/>
                        <a:pt x="677" y="272"/>
                        <a:pt x="677" y="272"/>
                      </a:cubicBezTo>
                      <a:cubicBezTo>
                        <a:pt x="701" y="341"/>
                        <a:pt x="762" y="375"/>
                        <a:pt x="829" y="387"/>
                      </a:cubicBezTo>
                      <a:cubicBezTo>
                        <a:pt x="838" y="386"/>
                        <a:pt x="850" y="389"/>
                        <a:pt x="857" y="383"/>
                      </a:cubicBezTo>
                      <a:cubicBezTo>
                        <a:pt x="861" y="379"/>
                        <a:pt x="850" y="374"/>
                        <a:pt x="848" y="369"/>
                      </a:cubicBezTo>
                      <a:cubicBezTo>
                        <a:pt x="835" y="339"/>
                        <a:pt x="852" y="361"/>
                        <a:pt x="834" y="341"/>
                      </a:cubicBezTo>
                      <a:cubicBezTo>
                        <a:pt x="823" y="312"/>
                        <a:pt x="796" y="294"/>
                        <a:pt x="774" y="272"/>
                      </a:cubicBezTo>
                      <a:cubicBezTo>
                        <a:pt x="769" y="259"/>
                        <a:pt x="758" y="248"/>
                        <a:pt x="755" y="235"/>
                      </a:cubicBezTo>
                      <a:cubicBezTo>
                        <a:pt x="746" y="200"/>
                        <a:pt x="753" y="162"/>
                        <a:pt x="719" y="139"/>
                      </a:cubicBezTo>
                      <a:cubicBezTo>
                        <a:pt x="701" y="113"/>
                        <a:pt x="683" y="93"/>
                        <a:pt x="663" y="69"/>
                      </a:cubicBezTo>
                      <a:cubicBezTo>
                        <a:pt x="656" y="61"/>
                        <a:pt x="645" y="42"/>
                        <a:pt x="645" y="42"/>
                      </a:cubicBezTo>
                      <a:cubicBezTo>
                        <a:pt x="650" y="20"/>
                        <a:pt x="657" y="11"/>
                        <a:pt x="677" y="0"/>
                      </a:cubicBezTo>
                    </a:path>
                  </a:pathLst>
                </a:custGeom>
                <a:noFill/>
                <a:ln w="41400">
                  <a:solidFill>
                    <a:srgbClr val="4646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833640" y="2147760"/>
                  <a:ext cx="166680" cy="131760"/>
                </a:xfrm>
                <a:prstGeom prst="line">
                  <a:avLst/>
                </a:prstGeom>
                <a:ln w="38160">
                  <a:solidFill>
                    <a:srgbClr val="4646c2"/>
                  </a:solidFill>
                  <a:miter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1" name=""/>
          <p:cNvSpPr/>
          <p:nvPr/>
        </p:nvSpPr>
        <p:spPr>
          <a:xfrm>
            <a:off x="5186520" y="2763720"/>
            <a:ext cx="32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mical  Bonds are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 is Electrical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R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negative (ac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Blu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positive (bas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BB6B-1CA7-48E5-8BAA-33F1EFBC8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8ab"/>
            </a:gs>
            <a:gs pos="50000">
              <a:srgbClr val="bbe0e3"/>
            </a:gs>
            <a:gs pos="100000">
              <a:srgbClr val="8ca8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54160" y="2890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ther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perties of Ion Channel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e likely to involve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ore subtle physic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cluding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rbital de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hemical bindi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0000"/>
                </a:solidFill>
                <a:latin typeface="Arial"/>
                <a:ea typeface="굴림"/>
              </a:rPr>
              <a:t>Selectivity apparently does no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9440" y="6218280"/>
            <a:ext cx="83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ner, Henderson, Gillespie, Boda and Eis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A20-00AC-4120-85BA-2616BE60C8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da9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604960" y="138240"/>
            <a:ext cx="41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23840" y="425520"/>
            <a:ext cx="8594640" cy="6432480"/>
            <a:chOff x="123840" y="425520"/>
            <a:chExt cx="8594640" cy="6432480"/>
          </a:xfrm>
        </p:grpSpPr>
        <p:sp>
          <p:nvSpPr>
            <p:cNvPr id="898" name=""/>
            <p:cNvSpPr/>
            <p:nvPr/>
          </p:nvSpPr>
          <p:spPr>
            <a:xfrm>
              <a:off x="123840" y="5465880"/>
              <a:ext cx="7913520" cy="1130040"/>
            </a:xfrm>
            <a:prstGeom prst="ellipse">
              <a:avLst/>
            </a:prstGeom>
            <a:gradFill rotWithShape="0">
              <a:gsLst>
                <a:gs pos="0">
                  <a:srgbClr val="c2c2c2">
                    <a:alpha val="17254"/>
                  </a:srgbClr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2880" y="425520"/>
              <a:ext cx="8445600" cy="64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993300"/>
                  </a:solidFill>
                  <a:latin typeface="Arial"/>
                  <a:ea typeface="굴림"/>
                </a:rPr>
                <a:t> </a:t>
              </a:r>
              <a:r>
                <a:rPr b="1" lang="en-US" sz="4400" spc="-1" strike="noStrike">
                  <a:solidFill>
                    <a:srgbClr val="993300"/>
                  </a:solidFill>
                  <a:latin typeface="Arial"/>
                  <a:ea typeface="굴림"/>
                </a:rPr>
                <a:t>Selectivity can be understood by </a:t>
              </a:r>
              <a:br>
                <a:rPr sz="4400"/>
              </a:br>
              <a:r>
                <a:rPr b="1" lang="en-US" sz="4400" spc="-1" strike="noStrike">
                  <a:solidFill>
                    <a:srgbClr val="993300"/>
                  </a:solidFill>
                  <a:latin typeface="Arial"/>
                  <a:ea typeface="굴림"/>
                </a:rPr>
                <a:t>Reduced Model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 </a:t>
              </a:r>
              <a:r>
                <a:rPr b="0" i="1" lang="en-US" sz="3600" spc="-1" strike="noStrike" u="sng">
                  <a:solidFill>
                    <a:srgbClr val="333399"/>
                  </a:solidFill>
                  <a:uFillTx/>
                  <a:latin typeface="Arial"/>
                  <a:ea typeface="굴림"/>
                </a:rPr>
                <a:t>K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</a:t>
              </a:r>
              <a:r>
                <a:rPr b="0" i="1" lang="en-US" sz="2800" spc="-1" strike="noStrike">
                  <a:solidFill>
                    <a:srgbClr val="333399"/>
                  </a:solidFill>
                  <a:latin typeface="Arial"/>
                  <a:ea typeface="굴림"/>
                </a:rPr>
                <a:t>channels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    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Benoit Roux</a:t>
              </a:r>
              <a:br>
                <a:rPr sz="3200"/>
              </a:b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     Susan Rem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 </a:t>
              </a:r>
              <a:r>
                <a:rPr b="0" i="1" lang="en-US" sz="3600" spc="-1" strike="noStrike" u="sng">
                  <a:solidFill>
                    <a:srgbClr val="333399"/>
                  </a:solidFill>
                  <a:uFillTx/>
                  <a:latin typeface="Arial"/>
                  <a:ea typeface="굴림"/>
                </a:rPr>
                <a:t>Na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&amp; </a:t>
              </a:r>
              <a:r>
                <a:rPr b="0" i="1" lang="en-US" sz="3600" spc="-1" strike="noStrike" u="sng">
                  <a:solidFill>
                    <a:srgbClr val="333399"/>
                  </a:solidFill>
                  <a:uFillTx/>
                  <a:latin typeface="Arial"/>
                  <a:ea typeface="굴림"/>
                </a:rPr>
                <a:t>Ca</a:t>
              </a:r>
              <a:r>
                <a:rPr b="0" i="1" lang="en-US" sz="28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channels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Nonner,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Arial"/>
                  <a:ea typeface="굴림"/>
                </a:rPr>
                <a:t>et al,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 </a:t>
              </a:r>
              <a:r>
                <a:rPr b="0" i="1" lang="en-US" sz="3600" spc="-1" strike="noStrike" u="sng">
                  <a:solidFill>
                    <a:srgbClr val="333399"/>
                  </a:solidFill>
                  <a:uFillTx/>
                  <a:latin typeface="Arial"/>
                  <a:ea typeface="굴림"/>
                </a:rPr>
                <a:t>RyR</a:t>
              </a:r>
              <a:r>
                <a:rPr b="0" i="1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</a:t>
              </a:r>
              <a:r>
                <a:rPr b="0" i="1" lang="en-US" sz="2800" spc="-1" strike="noStrike">
                  <a:solidFill>
                    <a:srgbClr val="333399"/>
                  </a:solidFill>
                  <a:latin typeface="Arial"/>
                  <a:ea typeface="굴림"/>
                </a:rPr>
                <a:t>channels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	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Gillespie 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  <a:ea typeface="굴림"/>
                </a:rPr>
                <a:t>&amp;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Meissner</a:t>
              </a:r>
              <a:r>
                <a:rPr b="0" lang="en-US" sz="3600" spc="-1" strike="noStrike">
                  <a:solidFill>
                    <a:srgbClr val="333399"/>
                  </a:solidFill>
                  <a:latin typeface="Arial"/>
                  <a:ea typeface="굴림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3160" y="5006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est 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55800" y="5292720"/>
              <a:ext cx="2221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DA8-F10D-4F5F-BECD-36CF46FD1B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64960" y="4338720"/>
            <a:ext cx="855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1840" y="915840"/>
            <a:ext cx="8912160" cy="4817880"/>
            <a:chOff x="231840" y="915840"/>
            <a:chExt cx="8912160" cy="4817880"/>
          </a:xfrm>
        </p:grpSpPr>
        <p:sp>
          <p:nvSpPr>
            <p:cNvPr id="454" name=""/>
            <p:cNvSpPr/>
            <p:nvPr/>
          </p:nvSpPr>
          <p:spPr>
            <a:xfrm>
              <a:off x="460440" y="2947680"/>
              <a:ext cx="845496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굴림"/>
                </a:rPr>
                <a:t> </a:t>
              </a:r>
              <a:r>
                <a:rPr b="1" lang="en-US" sz="4400" spc="-1" strike="noStrike" u="sng">
                  <a:solidFill>
                    <a:srgbClr val="990033"/>
                  </a:solidFill>
                  <a:uFillTx/>
                  <a:latin typeface="Arial"/>
                  <a:ea typeface="굴림"/>
                </a:rPr>
                <a:t>Proteins Bristle with Charge</a:t>
              </a:r>
              <a:r>
                <a:rPr b="1" lang="en-US" sz="4400" spc="-1" strike="noStrike">
                  <a:solidFill>
                    <a:srgbClr val="990033"/>
                  </a:solidFill>
                  <a:latin typeface="Arial"/>
                  <a:ea typeface="굴림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990033"/>
                  </a:solidFill>
                  <a:latin typeface="Arial"/>
                  <a:ea typeface="굴림"/>
                </a:rPr>
                <a:t>Cohn (1920’s) &amp; Edsall (1940’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1840" y="915840"/>
              <a:ext cx="891216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굴림"/>
                </a:rPr>
                <a:t>We start with </a:t>
              </a:r>
              <a:br>
                <a:rPr sz="2800"/>
              </a:br>
              <a:r>
                <a:rPr b="1" lang="en-US" sz="4000" spc="-1" strike="noStrike">
                  <a:solidFill>
                    <a:srgbClr val="000066"/>
                  </a:solidFill>
                  <a:latin typeface="Arial"/>
                  <a:ea typeface="굴림"/>
                </a:rPr>
                <a:t>Electrostatics</a:t>
              </a:r>
              <a:br>
                <a:rPr sz="4000"/>
              </a:b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굴림"/>
                </a:rPr>
                <a:t>because of biolo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3C1D-6DCE-4802-AC3A-95DB665A0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64960" y="4338720"/>
            <a:ext cx="855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1840" y="3327480"/>
            <a:ext cx="891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  <a:ea typeface="굴림"/>
              </a:rPr>
              <a:t>and we add</a:t>
            </a:r>
            <a:br>
              <a:rPr sz="32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굴림"/>
              </a:rPr>
              <a:t>Finite Siz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굴림"/>
              </a:rPr>
              <a:t>because of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1840" y="725400"/>
            <a:ext cx="8912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굴림"/>
              </a:rPr>
              <a:t>We start with </a:t>
            </a:r>
            <a:br>
              <a:rPr sz="28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굴림"/>
              </a:rPr>
              <a:t>Electrostatics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굴림"/>
              </a:rPr>
              <a:t>because of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6DCF-2200-42FF-9186-3083095F53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64960" y="4338720"/>
            <a:ext cx="855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1840" y="0"/>
            <a:ext cx="89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  <a:ea typeface="굴림"/>
              </a:rPr>
              <a:t>Finite Siz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825480"/>
            <a:ext cx="859140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0000"/>
                </a:solidFill>
                <a:latin typeface="Arial"/>
                <a:ea typeface="굴림"/>
              </a:rPr>
              <a:t>Fundamental</a:t>
            </a:r>
            <a:br>
              <a:rPr sz="4000"/>
            </a:br>
            <a:r>
              <a:rPr b="1" lang="en-US" sz="4000" spc="-1" strike="noStrike">
                <a:solidFill>
                  <a:srgbClr val="be0000"/>
                </a:solidFill>
                <a:latin typeface="Arial"/>
                <a:ea typeface="굴림"/>
              </a:rPr>
              <a:t>Chemically Specific Properti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of ions (e.g. activity= free energy per mole)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come from their </a:t>
            </a:r>
            <a:br>
              <a:rPr sz="2800"/>
            </a:br>
            <a:r>
              <a:rPr b="1" lang="en-US" sz="4000" spc="-1" strike="noStrike">
                <a:solidFill>
                  <a:srgbClr val="be0000"/>
                </a:solidFill>
                <a:latin typeface="Arial"/>
                <a:ea typeface="굴림"/>
              </a:rPr>
              <a:t>Diameter and Charg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not vaguely defined hydration shells or ‘chemical’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00080" y="5100480"/>
            <a:ext cx="725976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in Result of Modern Physical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6440" y="5695920"/>
            <a:ext cx="900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ed by Regensburg School, Josef Barthel lead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ed from Doug Henderson, J.-P. Hansen, Stuart Rice, among others…Than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71D6-6B74-47ED-918F-C89C8265C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0"/>
            <a:ext cx="9629640" cy="6860160"/>
            <a:chOff x="0" y="0"/>
            <a:chExt cx="9629640" cy="6860160"/>
          </a:xfrm>
        </p:grpSpPr>
        <p:grpSp>
          <p:nvGrpSpPr>
            <p:cNvPr id="465" name=""/>
            <p:cNvGrpSpPr/>
            <p:nvPr/>
          </p:nvGrpSpPr>
          <p:grpSpPr>
            <a:xfrm>
              <a:off x="0" y="0"/>
              <a:ext cx="9629640" cy="6860160"/>
              <a:chOff x="0" y="0"/>
              <a:chExt cx="9629640" cy="6860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0" y="0"/>
                <a:ext cx="9629640" cy="6860160"/>
                <a:chOff x="0" y="0"/>
                <a:chExt cx="9629640" cy="686016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0" y="0"/>
                  <a:ext cx="9629640" cy="6860160"/>
                  <a:chOff x="0" y="0"/>
                  <a:chExt cx="9629640" cy="68601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0" y="0"/>
                    <a:ext cx="9629640" cy="100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Active Sites</a:t>
                    </a: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 of Proteins are </a:t>
                    </a:r>
                    <a:r>
                      <a:rPr b="1" i="1" lang="en-US" sz="3200" spc="-1" strike="noStrike">
                        <a:solidFill>
                          <a:srgbClr val="990033"/>
                        </a:solidFill>
                        <a:latin typeface="Arial"/>
                        <a:ea typeface="굴림"/>
                      </a:rPr>
                      <a:t>Very</a:t>
                    </a:r>
                    <a:r>
                      <a:rPr b="1" lang="en-US" sz="3200" spc="-1" strike="noStrike">
                        <a:solidFill>
                          <a:srgbClr val="ff0000"/>
                        </a:solidFill>
                        <a:latin typeface="Arial"/>
                        <a:ea typeface="굴림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990033"/>
                        </a:solidFill>
                        <a:latin typeface="Arial"/>
                        <a:ea typeface="굴림"/>
                      </a:rPr>
                      <a:t>Charged</a:t>
                    </a: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e.g. 7 charges ~ </a:t>
                    </a:r>
                    <a:r>
                      <a:rPr b="1" lang="en-US" sz="2800" spc="-1" strike="noStrike">
                        <a:solidFill>
                          <a:srgbClr val="990000"/>
                        </a:solidFill>
                        <a:latin typeface="Arial"/>
                        <a:ea typeface="굴림"/>
                      </a:rPr>
                      <a:t>20 </a:t>
                    </a:r>
                    <a:r>
                      <a:rPr b="1" lang="en-US" sz="2800" spc="-1" strike="noStrike" u="sng">
                        <a:solidFill>
                          <a:srgbClr val="990000"/>
                        </a:solidFill>
                        <a:uFillTx/>
                        <a:latin typeface="Arial"/>
                        <a:ea typeface="굴림"/>
                      </a:rPr>
                      <a:t>M</a:t>
                    </a:r>
                    <a:r>
                      <a:rPr b="1" lang="en-US" sz="2800" spc="-1" strike="noStrike">
                        <a:solidFill>
                          <a:srgbClr val="990000"/>
                        </a:solidFill>
                        <a:latin typeface="Arial"/>
                        <a:ea typeface="굴림"/>
                      </a:rPr>
                      <a:t> net charg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88600" y="5303880"/>
                    <a:ext cx="8451720" cy="155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Selectivity Filters and Gates of Ion Channels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are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  <a:ea typeface="굴림"/>
                      </a:rPr>
                      <a:t>Active Sites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70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552400" y="1082520"/>
                    <a:ext cx="4522320" cy="41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71" name=""/>
                <p:cNvSpPr/>
                <p:nvPr/>
              </p:nvSpPr>
              <p:spPr>
                <a:xfrm>
                  <a:off x="190440" y="3497400"/>
                  <a:ext cx="203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1440" y="2917800"/>
                  <a:ext cx="1859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5938200" y="492120"/>
                <a:ext cx="25761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990000"/>
                    </a:solidFill>
                    <a:latin typeface="Arial"/>
                  </a:rPr>
                  <a:t>= 1.2×10</a:t>
                </a:r>
                <a:r>
                  <a:rPr b="1" lang="en-US" sz="3300" spc="-1" strike="noStrike" baseline="30000">
                    <a:solidFill>
                      <a:srgbClr val="990000"/>
                    </a:solidFill>
                    <a:latin typeface="Arial"/>
                  </a:rPr>
                  <a:t>22</a:t>
                </a:r>
                <a:r>
                  <a:rPr b="1" lang="en-US" sz="2900" spc="-1" strike="noStrike">
                    <a:solidFill>
                      <a:srgbClr val="990000"/>
                    </a:solidFill>
                    <a:latin typeface="Arial"/>
                  </a:rPr>
                  <a:t> cm</a:t>
                </a:r>
                <a:r>
                  <a:rPr b="1" lang="en-US" sz="3300" spc="-1" strike="noStrike" baseline="30000">
                    <a:solidFill>
                      <a:srgbClr val="990000"/>
                    </a:solidFill>
                    <a:latin typeface="Arial"/>
                  </a:rPr>
                  <a:t>-3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4827600" y="331956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1240" y="303516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05440" y="293040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0880" y="289080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61240" y="274788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46560" y="1892160"/>
              <a:ext cx="5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30960" y="420840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26240" y="395280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9680" y="301464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305840" y="1908000"/>
            <a:ext cx="173664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re Crow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178600" y="3297240"/>
            <a:ext cx="518760" cy="398880"/>
            <a:chOff x="5178600" y="3297240"/>
            <a:chExt cx="518760" cy="398880"/>
          </a:xfrm>
        </p:grpSpPr>
        <p:sp>
          <p:nvSpPr>
            <p:cNvPr id="485" name=""/>
            <p:cNvSpPr/>
            <p:nvPr/>
          </p:nvSpPr>
          <p:spPr>
            <a:xfrm>
              <a:off x="5249880" y="3301920"/>
              <a:ext cx="387360" cy="36684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bcbcbc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78600" y="3297240"/>
              <a:ext cx="518760" cy="398880"/>
            </a:xfrm>
            <a:prstGeom prst="rect">
              <a:avLst/>
            </a:prstGeom>
            <a:solidFill>
              <a:srgbClr val="ffffff">
                <a:alpha val="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010200" y="3073320"/>
            <a:ext cx="518760" cy="398880"/>
            <a:chOff x="6010200" y="3073320"/>
            <a:chExt cx="518760" cy="398880"/>
          </a:xfrm>
        </p:grpSpPr>
        <p:sp>
          <p:nvSpPr>
            <p:cNvPr id="488" name=""/>
            <p:cNvSpPr/>
            <p:nvPr/>
          </p:nvSpPr>
          <p:spPr>
            <a:xfrm>
              <a:off x="6081480" y="3078000"/>
              <a:ext cx="387360" cy="36684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bcbcbc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0200" y="3073320"/>
              <a:ext cx="518760" cy="398880"/>
            </a:xfrm>
            <a:prstGeom prst="rect">
              <a:avLst/>
            </a:prstGeom>
            <a:solidFill>
              <a:srgbClr val="ffffff">
                <a:alpha val="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195640" y="1158840"/>
            <a:ext cx="24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d9f3"/>
                </a:solidFill>
                <a:latin typeface="Arial"/>
              </a:rPr>
              <a:t>OmpF Po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31040" y="397980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gure adapted from Tilman Schi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7DC5-1731-4BEC-BE6C-D67BD7C18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aa5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61960" y="1801800"/>
            <a:ext cx="8018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굴림"/>
              </a:rPr>
              <a:t>Selectivity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굴림"/>
              </a:rPr>
              <a:t>Differ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굴림"/>
              </a:rPr>
              <a:t>in Different Types of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4320" y="5264280"/>
            <a:ext cx="75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lfgang Nonner, Dirk Gillespie, Douglas Henderson, Dezso B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0B7-E434-4214-8C14-028CA1520B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5400" y="3610080"/>
            <a:ext cx="22381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P/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5400" y="1589040"/>
            <a:ext cx="223812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D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5400" y="558720"/>
            <a:ext cx="2238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y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94560" y="3610080"/>
            <a:ext cx="24303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P/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3610080"/>
            <a:ext cx="21225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3520" y="3610080"/>
            <a:ext cx="223848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P/DFT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94560" y="1589040"/>
            <a:ext cx="243036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Vario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-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1589040"/>
            <a:ext cx="212256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, 1+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3520" y="1589040"/>
            <a:ext cx="223848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ity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E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694560" y="558720"/>
            <a:ext cx="243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558720"/>
            <a:ext cx="212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dium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33520" y="558720"/>
            <a:ext cx="22384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lcium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5400" y="558720"/>
            <a:ext cx="9029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5400" y="1589040"/>
            <a:ext cx="902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5400" y="3610080"/>
            <a:ext cx="902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5400" y="4452840"/>
            <a:ext cx="9029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5400" y="558720"/>
            <a:ext cx="0" cy="3894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558720"/>
            <a:ext cx="0" cy="389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4560" y="558720"/>
            <a:ext cx="0" cy="389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124920" y="558720"/>
            <a:ext cx="0" cy="3894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33520" y="558720"/>
            <a:ext cx="0" cy="389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0" y="0"/>
            <a:ext cx="8935920" cy="6607800"/>
            <a:chOff x="0" y="0"/>
            <a:chExt cx="8935920" cy="6607800"/>
          </a:xfrm>
        </p:grpSpPr>
        <p:sp>
          <p:nvSpPr>
            <p:cNvPr id="516" name=""/>
            <p:cNvSpPr/>
            <p:nvPr/>
          </p:nvSpPr>
          <p:spPr>
            <a:xfrm>
              <a:off x="579960" y="0"/>
              <a:ext cx="799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lectivity of Different Channel Types Studied in Many Solu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4748040"/>
              <a:ext cx="893592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yR mode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f Gillespie is best worked out, most data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br>
                <a:rPr sz="2400"/>
              </a:b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K channe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del of Benoit Roux is Similar </a:t>
              </a:r>
              <a:br>
                <a:rPr sz="2400"/>
              </a:b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Quantum Water/K</a:t>
              </a:r>
              <a:r>
                <a:rPr b="1" lang="en-US" sz="24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del of Susan Rempe is Similar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ither K model has yet been computed in a range of solu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89040" y="6300720"/>
              <a:ext cx="349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ner, Gillespie, Henderson, B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25280" y="574560"/>
            <a:ext cx="6589800" cy="39020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A0D2-CB13-4F9D-B57C-49073F6C9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19:07:19Z</dcterms:created>
  <dc:creator>Bob Eisenberg</dc:creator>
  <dc:description/>
  <dc:language>en-US</dc:language>
  <cp:lastModifiedBy>Bob Eisenberg</cp:lastModifiedBy>
  <dcterms:modified xsi:type="dcterms:W3CDTF">2007-11-19T13:53:19Z</dcterms:modified>
  <cp:revision>1337</cp:revision>
  <dc:subject/>
  <dc:title>Slide 1</dc:title>
</cp:coreProperties>
</file>